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AEA-2C7C-4276-ABD9-A0208F59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A92-1E15-40AF-B357-B4DDA2C6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6131A-AC71-46BC-A0FC-24BAA670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5770D-9A97-49E8-BC31-5CFA3D1F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FB3CE-7602-46F8-B6C5-F8714141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EE012-A185-4683-A1D1-56B40821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47B27-C951-4661-ADD6-7BCDA485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53BD2-2A21-4347-85C2-0122E0D4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A528B-7713-4E1C-A471-2818F67F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90488-9226-4BE3-96FF-C197E78D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9F718-0006-43FE-BF30-F520EE9F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985FB-31A3-4B92-AD71-343AF585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00B-6D9B-4CE3-9531-4F3B6E68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24554-EF8A-4BDD-B86C-B30A3818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2BA5E-39FD-4AEF-8328-2BC0D0F7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82105-5CF6-4557-91D7-219F7191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E47F2-3399-4286-8C63-1553ED23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07D55-5596-45DA-920C-AA1DDB32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9A22A-F352-438C-8861-70F09964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DC592-A842-446D-83BC-250CC57C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F990D-8A44-46F1-9523-BC42F296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1B4D3-6950-4FC9-948A-1B73CB52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B2CB9-3A75-4EB5-A7A7-84F2929A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75E-DFD3-4B16-8404-C83B5977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CC0A0-309D-4686-85C5-419DA4C7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37641-4C28-416E-B96A-88F8DAAA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2D5E3-8071-49E1-9036-7CABB923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C14B6-D8E2-4901-A6B6-18CE8D5A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0514B-E2A4-40A8-894B-7AB02AA6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C4317-7B4E-4BBA-A7F6-671D6D88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8462C-4F1F-4E1A-B0DB-9B2CADE8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33637-5A72-4BEF-A019-B2ACF943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8C7F5-2055-46FD-8B41-BE8814C0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3E88F-9337-448C-A651-DA2A141F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39D2-0974-499B-B978-B3C5D505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1357A-0430-4371-8295-5331268E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FB49A-96C1-4330-8892-3F7487E2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17DDB-C07A-4627-AC5B-47E752E0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6C9BD-E677-4886-B60A-D7F87E63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41B7B-80CC-4A43-B680-0A7CA1BF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E6FF6-681F-457C-A4ED-99B4C875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8D9EC-862B-4274-8FA5-7C657F48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AA7B3-7B85-40AC-8757-8D2435B8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9F521-4309-4516-996E-102E2387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16990-8FF8-4E4B-8273-104D0F6D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19B1-9B0F-44C3-850F-DCBC614E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87BC3-77BB-4ED0-A0C6-AD54A54C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3B81B-4407-4E8E-9837-659BD5BD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2DEB9-0C9C-4148-A0C2-FFAEBCAA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09DD8-2D39-4F49-AFE0-A8989C4B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ACC02-51FC-4C88-B890-DADD8BFF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A1BE-F2B1-4612-8824-A277E4C8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9F44-882C-4C37-8F60-30B5BD58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B21E-459F-4D01-9108-81854C1C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B071-6764-405B-B529-764DF398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A199-EB21-43DF-A518-18F0D0FA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6AE-CDF1-47D0-9EDE-C7ED8F99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B59D-22A0-4C13-9FE9-CAF685DE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6DFB-2DA9-47F9-A975-88556AAB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F309-6124-48BC-A31D-D3FD20C6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0C9C-2822-4862-954A-96CC9864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84BF-E089-423A-BBB7-DBA02A3A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5A42-DDE8-4DCD-B2A8-1B51BC61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7602-FE3C-403E-B4C2-E3CD41F0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C82D-BD0C-4424-A53D-290275CC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0D9CA-103B-4A11-8EC6-3AABE65E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1C76-CEEF-4F4B-8F89-E1B38102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E69-178E-4421-BF82-437F81EF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D2BE-F749-4964-8077-FC66D832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7AD80-DF32-4BB3-A789-F4344CE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78D29-914E-4A39-A932-19B1BA5D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81EE2-DEEF-4D76-A47E-6C1D2D97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4D0EC-A0DB-48CC-B7A3-EC4B6BE0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46F46-8BAF-421E-9B97-F8F1D83C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57B6-D9A5-4716-8ECB-21FCA4D5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4A680-17DE-421C-96C8-873DA664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3B1AA-C9CB-4C9B-86C8-28518BCE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79BD4-AB98-4AF9-9F67-52943B39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B85-84B6-47D6-9271-D59F9099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C8A93-21BB-41C0-9304-F6D076AF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49E56-7434-4549-BB71-A0573E75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15A01-45D3-4045-8C93-EFAC471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3ADAD-2516-4553-8272-153E837B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B7EA8-3CE3-4EDA-9E68-F50B7BBD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8A99-44A7-4D4D-AD4C-C54FD0EE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5E4F1-9D58-4303-91B2-BE464309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4EF39-3F0E-41E5-959E-FB1D496F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6B5CA-5B7D-43B6-9381-85405C78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B23C2-D974-4DC2-9266-F83F80E3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960-406D-401C-9FAA-B75C7BD3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A66A-1471-4441-91D2-AD8584E3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232E3-4152-4A2E-8649-9521950D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A8544-412B-465A-80DD-EDBC084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0EA47-7B9E-4704-AD58-F337214B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F415E-BB97-46FD-8C19-299A8624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07A70-DAB4-4B9B-8CBF-1F6804C5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0AB4C-775E-42C9-864E-3D058EF9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315DB-A16D-43BA-B623-BBE54ECD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BF08D-D587-4AAD-A0EB-7DFCF785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8C2CD-EB50-4367-8072-3BCFFE7B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8E4-9C4D-45B4-B3CB-ED2E7CCB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BA847-33AB-43C5-BD6D-AE678D9D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CBCA3-2201-41FC-8DC2-442509E5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7861D-56E0-4170-9A29-D08FD4B0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48C51-4EF7-4285-8D71-4E8A5A81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9AB06-01E2-40F9-8836-B3963228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1E2F6-B249-4964-BED2-1823BA51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ADB70-F095-4880-BAA5-107BF364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C9B5F-EDE7-454C-847F-5B4A6A6B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FA26D-E568-4AF9-A64E-CD025975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97BEC-8969-42A4-8D70-DD55FBAC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945-8B82-4961-922C-591C8130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EA0D2-576E-48FA-A763-7205A3F1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3CAC6-06CB-4942-A7CD-DDFDBD3F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4497F-3148-4A6D-BC31-D848B1FA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02810-F2EA-463D-9F2E-1E0A72D0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E8A2B-F41D-498C-AA75-8E55311F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91EEA-4A1F-4A24-B46E-49F2D3C4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CC195-A83E-4AEC-9AE0-57460E32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16191-8D70-4CB7-82EB-50DEBE40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30E5F-C915-48BF-834F-EF4E866B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CC964-A58F-465D-B0B7-F82DAA90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987-205E-4F50-A6DA-F93AF1D6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12050-6252-4CDB-B968-EA44C839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66BED-E70C-4E81-9440-4416BFE2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3491A-B1BA-4F54-822E-6E0D6D64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29D78-9F72-4062-B578-A023F065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9056F-74BB-4268-A34C-A677EDB0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12444-6055-4DD0-847C-EE5DB99F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7A4D5-2DDF-4861-9E67-1B5E4945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444B1-17C3-4D60-BCE2-697CE852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7B8B8-BAB4-4C9D-8858-5BD42E3C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BE0FC-83A1-433F-B4A2-5431A5E2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E5A-A96E-4B8B-A696-D089A5D7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F9404-51D2-4C64-80E8-33FE2268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35B55-45F5-453F-8AB2-C68C0359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5F104-1F04-4063-8CF4-46607442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9773C-171D-4593-AE3A-A3B7A839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9E173-5ED2-4815-A22A-B1F8C587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6233A-9216-4308-94A8-275F2866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BBD24-504E-4E60-ADBF-D80DBD4B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F5B38-2030-467A-A7BA-45559A6D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72F54-39AC-4DFD-A718-771A5A19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38157-974D-4BB6-ADED-8F131DE4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477F-B470-42A1-A93A-C98622DFA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2BB8-DCE2-4636-8F9D-0F172D1CF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FF9C-1BC6-4838-8440-A2F4CDF8F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51F6-C428-4405-A53D-E09B12F17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4657-4A33-4FFB-9D9C-583885018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939F-C546-42A5-AB92-9D4422416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6940-5A19-481E-9326-210D6D2DF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6148-DF53-49B1-B40E-3EB0638B6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374E-CB34-47AA-9B22-9BF8A375F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B29E-8FA2-4FE2-A7E8-B2BEDE544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9275-F9F4-4319-891B-1319EF742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567A-3371-42DC-8BBB-E715F4814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29.xml"/><Relationship Id="rId7" Type="http://schemas.openxmlformats.org/officeDocument/2006/relationships/slide" Target="slide33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3.xml"/><Relationship Id="rId13" Type="http://schemas.openxmlformats.org/officeDocument/2006/relationships/slide" Target="slide34.xml"/><Relationship Id="rId14" Type="http://schemas.openxmlformats.org/officeDocument/2006/relationships/slide" Target=""/><Relationship Id="rId15" Type="http://schemas.openxmlformats.org/officeDocument/2006/relationships/slide" Target="slide35.xml"/><Relationship Id="rId16" Type="http://schemas.openxmlformats.org/officeDocument/2006/relationships/slide" Target=""/><Relationship Id="rId17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онституция и 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>
            <a:hlinkClick r:id="rId1" action="ppaction://hlinksldjump"/>
          </p:cNvPr>
          <p:cNvSpPr/>
          <p:nvPr/>
        </p:nvSpPr>
        <p:spPr>
          <a:xfrm>
            <a:off x="8026560" y="5918040"/>
            <a:ext cx="871200" cy="722520"/>
          </a:xfrm>
          <a:custGeom>
            <a:avLst/>
            <a:gdLst>
              <a:gd name="textAreaLeft" fmla="*/ 46800 w 871200"/>
              <a:gd name="textAreaRight" fmla="*/ 824400 w 871200"/>
              <a:gd name="textAreaTop" fmla="*/ 46800 h 722520"/>
              <a:gd name="textAreaBottom" fmla="*/ 675720 h 722520"/>
            </a:gdLst>
            <a:ahLst/>
            <a:rect l="textAreaLeft" t="textAreaTop" r="textAreaRight" b="textAreaBottom"/>
            <a:pathLst>
              <a:path w="26043" h="21600">
                <a:moveTo>
                  <a:pt x="0" y="0"/>
                </a:moveTo>
                <a:lnTo>
                  <a:pt x="26043" y="0"/>
                </a:lnTo>
                <a:lnTo>
                  <a:pt x="26043" y="21600"/>
                </a:lnTo>
                <a:lnTo>
                  <a:pt x="0" y="21600"/>
                </a:lnTo>
                <a:close/>
              </a:path>
              <a:path fill="lightenLess" w="26043" h="21600">
                <a:moveTo>
                  <a:pt x="0" y="0"/>
                </a:moveTo>
                <a:lnTo>
                  <a:pt x="26043" y="0"/>
                </a:lnTo>
                <a:lnTo>
                  <a:pt x="24643" y="1400"/>
                </a:lnTo>
                <a:lnTo>
                  <a:pt x="1400" y="1400"/>
                </a:lnTo>
                <a:close/>
              </a:path>
              <a:path fill="darken" w="26043" h="21600">
                <a:moveTo>
                  <a:pt x="26043" y="0"/>
                </a:moveTo>
                <a:lnTo>
                  <a:pt x="26043" y="21600"/>
                </a:lnTo>
                <a:lnTo>
                  <a:pt x="24643" y="20200"/>
                </a:lnTo>
                <a:lnTo>
                  <a:pt x="24643" y="1400"/>
                </a:lnTo>
                <a:close/>
              </a:path>
              <a:path fill="darkenLess" w="26043" h="21600">
                <a:moveTo>
                  <a:pt x="26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43" y="20200"/>
                </a:lnTo>
                <a:close/>
              </a:path>
              <a:path fill="lighten" w="26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43" h="21600">
                <a:moveTo>
                  <a:pt x="6015" y="3794"/>
                </a:moveTo>
                <a:lnTo>
                  <a:pt x="20028" y="10800"/>
                </a:lnTo>
                <a:lnTo>
                  <a:pt x="6015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2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595520" y="493560"/>
            <a:ext cx="68562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31459c"/>
                </a:solidFill>
                <a:latin typeface="Arial"/>
              </a:rPr>
              <a:t>Когда  была прин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Конституция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6">
            <a:hlinkClick r:id="rId1"/>
          </p:cNvPr>
          <p:cNvSpPr/>
          <p:nvPr/>
        </p:nvSpPr>
        <p:spPr>
          <a:xfrm>
            <a:off x="1909800" y="2732040"/>
            <a:ext cx="1681200" cy="1042920"/>
          </a:xfrm>
          <a:custGeom>
            <a:avLst/>
            <a:gdLst>
              <a:gd name="textAreaLeft" fmla="*/ 67320 w 1681200"/>
              <a:gd name="textAreaRight" fmla="*/ 1613880 w 16812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4815" h="21600">
                <a:moveTo>
                  <a:pt x="0" y="0"/>
                </a:moveTo>
                <a:lnTo>
                  <a:pt x="34815" y="0"/>
                </a:lnTo>
                <a:lnTo>
                  <a:pt x="34815" y="21600"/>
                </a:lnTo>
                <a:lnTo>
                  <a:pt x="0" y="21600"/>
                </a:lnTo>
                <a:close/>
              </a:path>
              <a:path fill="lightenLess" w="34815" h="21600">
                <a:moveTo>
                  <a:pt x="0" y="0"/>
                </a:moveTo>
                <a:lnTo>
                  <a:pt x="34815" y="0"/>
                </a:lnTo>
                <a:lnTo>
                  <a:pt x="33415" y="1400"/>
                </a:lnTo>
                <a:lnTo>
                  <a:pt x="1400" y="1400"/>
                </a:lnTo>
                <a:close/>
              </a:path>
              <a:path fill="darken" w="34815" h="21600">
                <a:moveTo>
                  <a:pt x="34815" y="0"/>
                </a:moveTo>
                <a:lnTo>
                  <a:pt x="34815" y="21600"/>
                </a:lnTo>
                <a:lnTo>
                  <a:pt x="33415" y="20200"/>
                </a:lnTo>
                <a:lnTo>
                  <a:pt x="33415" y="1400"/>
                </a:lnTo>
                <a:close/>
              </a:path>
              <a:path fill="darkenLess" w="34815" h="21600">
                <a:moveTo>
                  <a:pt x="34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5" y="20200"/>
                </a:lnTo>
                <a:close/>
              </a:path>
              <a:path fill="lighten" w="34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1 ию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9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7">
            <a:hlinkClick r:id="rId2"/>
          </p:cNvPr>
          <p:cNvSpPr/>
          <p:nvPr/>
        </p:nvSpPr>
        <p:spPr>
          <a:xfrm>
            <a:off x="3706920" y="3943440"/>
            <a:ext cx="1719000" cy="1042920"/>
          </a:xfrm>
          <a:custGeom>
            <a:avLst/>
            <a:gdLst>
              <a:gd name="textAreaLeft" fmla="*/ 67320 w 1719000"/>
              <a:gd name="textAreaRight" fmla="*/ 1651680 w 1719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5598" h="21600">
                <a:moveTo>
                  <a:pt x="0" y="0"/>
                </a:moveTo>
                <a:lnTo>
                  <a:pt x="35598" y="0"/>
                </a:lnTo>
                <a:lnTo>
                  <a:pt x="35598" y="21600"/>
                </a:lnTo>
                <a:lnTo>
                  <a:pt x="0" y="21600"/>
                </a:lnTo>
                <a:close/>
              </a:path>
              <a:path fill="lightenLess" w="35598" h="21600">
                <a:moveTo>
                  <a:pt x="0" y="0"/>
                </a:moveTo>
                <a:lnTo>
                  <a:pt x="35598" y="0"/>
                </a:lnTo>
                <a:lnTo>
                  <a:pt x="34198" y="1400"/>
                </a:lnTo>
                <a:lnTo>
                  <a:pt x="1400" y="1400"/>
                </a:lnTo>
                <a:close/>
              </a:path>
              <a:path fill="darken" w="35598" h="21600">
                <a:moveTo>
                  <a:pt x="35598" y="0"/>
                </a:moveTo>
                <a:lnTo>
                  <a:pt x="35598" y="21600"/>
                </a:lnTo>
                <a:lnTo>
                  <a:pt x="34198" y="20200"/>
                </a:lnTo>
                <a:lnTo>
                  <a:pt x="34198" y="1400"/>
                </a:lnTo>
                <a:close/>
              </a:path>
              <a:path fill="darkenLess" w="35598" h="21600">
                <a:moveTo>
                  <a:pt x="35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8" y="20200"/>
                </a:lnTo>
                <a:close/>
              </a:path>
              <a:path fill="lighten" w="35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дека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9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8">
            <a:hlinkClick r:id="rId3"/>
          </p:cNvPr>
          <p:cNvSpPr/>
          <p:nvPr/>
        </p:nvSpPr>
        <p:spPr>
          <a:xfrm>
            <a:off x="6026040" y="4929120"/>
            <a:ext cx="1710000" cy="1042920"/>
          </a:xfrm>
          <a:custGeom>
            <a:avLst/>
            <a:gdLst>
              <a:gd name="textAreaLeft" fmla="*/ 67320 w 1710000"/>
              <a:gd name="textAreaRight" fmla="*/ 1642680 w 171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5411" h="21600">
                <a:moveTo>
                  <a:pt x="0" y="0"/>
                </a:moveTo>
                <a:lnTo>
                  <a:pt x="35411" y="0"/>
                </a:lnTo>
                <a:lnTo>
                  <a:pt x="35411" y="21600"/>
                </a:lnTo>
                <a:lnTo>
                  <a:pt x="0" y="21600"/>
                </a:lnTo>
                <a:close/>
              </a:path>
              <a:path fill="lightenLess" w="35411" h="21600">
                <a:moveTo>
                  <a:pt x="0" y="0"/>
                </a:moveTo>
                <a:lnTo>
                  <a:pt x="35411" y="0"/>
                </a:lnTo>
                <a:lnTo>
                  <a:pt x="34011" y="1400"/>
                </a:lnTo>
                <a:lnTo>
                  <a:pt x="1400" y="1400"/>
                </a:lnTo>
                <a:close/>
              </a:path>
              <a:path fill="darken" w="35411" h="21600">
                <a:moveTo>
                  <a:pt x="35411" y="0"/>
                </a:moveTo>
                <a:lnTo>
                  <a:pt x="35411" y="21600"/>
                </a:lnTo>
                <a:lnTo>
                  <a:pt x="34011" y="20200"/>
                </a:lnTo>
                <a:lnTo>
                  <a:pt x="34011" y="1400"/>
                </a:lnTo>
                <a:close/>
              </a:path>
              <a:path fill="darkenLess" w="35411" h="21600">
                <a:moveTo>
                  <a:pt x="3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11" y="20200"/>
                </a:lnTo>
                <a:close/>
              </a:path>
              <a:path fill="lighten" w="3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 дека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0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6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946080" y="922320"/>
            <a:ext cx="984888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      </a:t>
            </a: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Конститу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была прин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           </a:t>
            </a: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12 декабр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             </a:t>
            </a: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1993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Нарушили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алёнушка.avi" descr=""/>
          <p:cNvPicPr/>
          <p:nvPr/>
        </p:nvPicPr>
        <p:blipFill>
          <a:blip r:embed="rId1"/>
          <a:stretch/>
        </p:blipFill>
        <p:spPr>
          <a:xfrm>
            <a:off x="647640" y="306360"/>
            <a:ext cx="7391520" cy="5913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3520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5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1062000" y="325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2190600" y="1527120"/>
            <a:ext cx="53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атья 22  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987480" y="2666880"/>
            <a:ext cx="82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имеет право на свободу и личную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икосно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ест, заключение под стражу и содерж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стражей возможно только по реш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золушка.avi" descr=""/>
          <p:cNvPicPr/>
          <p:nvPr/>
        </p:nvPicPr>
        <p:blipFill>
          <a:blip r:embed="rId1"/>
          <a:stretch/>
        </p:blipFill>
        <p:spPr>
          <a:xfrm>
            <a:off x="809640" y="782640"/>
            <a:ext cx="7286760" cy="5829120"/>
          </a:xfrm>
          <a:prstGeom prst="rect">
            <a:avLst/>
          </a:prstGeom>
          <a:ln w="0">
            <a:noFill/>
          </a:ln>
        </p:spPr>
      </p:pic>
      <p:sp>
        <p:nvSpPr>
          <p:cNvPr id="565" name="TextBox 3"/>
          <p:cNvSpPr/>
          <p:nvPr/>
        </p:nvSpPr>
        <p:spPr>
          <a:xfrm>
            <a:off x="1566720" y="5864400"/>
            <a:ext cx="502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/ф «Золушка»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67120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6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1019160" y="774720"/>
            <a:ext cx="7488360" cy="574200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828800" y="152712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атья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"/>
          <p:cNvSpPr/>
          <p:nvPr/>
        </p:nvSpPr>
        <p:spPr>
          <a:xfrm>
            <a:off x="1219320" y="23400"/>
            <a:ext cx="701028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руд свободен. Каждый имеет право свободно распоряжаться своими спосо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труду, выбирать род деятельности и професс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нудительный труд запрещ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маша и медведь.mp4" descr=""/>
          <p:cNvPicPr/>
          <p:nvPr/>
        </p:nvPicPr>
        <p:blipFill>
          <a:blip r:embed="rId1"/>
          <a:stretch/>
        </p:blipFill>
        <p:spPr>
          <a:xfrm>
            <a:off x="492120" y="469800"/>
            <a:ext cx="7846920" cy="5843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31360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874800" y="334800"/>
            <a:ext cx="7488000" cy="628524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176560" y="1049400"/>
            <a:ext cx="55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атья 25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177920" y="2046240"/>
            <a:ext cx="71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ище неприкосновенно. Никто не вправе проникать в жилище против воли проживающих в нём 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аче как в случаях, установленных федеральным законом или на основании судебного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/>
          <p:cNvSpPr/>
          <p:nvPr/>
        </p:nvSpPr>
        <p:spPr>
          <a:xfrm>
            <a:off x="7858080" y="5695920"/>
            <a:ext cx="852480" cy="814320"/>
          </a:xfrm>
          <a:custGeom>
            <a:avLst/>
            <a:gdLst>
              <a:gd name="textAreaLeft" fmla="*/ 52560 w 852480"/>
              <a:gd name="textAreaRight" fmla="*/ 799920 w 8524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4299" y="7493"/>
                </a:moveTo>
                <a:lnTo>
                  <a:pt x="7807" y="7493"/>
                </a:lnTo>
                <a:lnTo>
                  <a:pt x="7807" y="12828"/>
                </a:lnTo>
                <a:cubicBezTo>
                  <a:pt x="7807" y="13751"/>
                  <a:pt x="8608" y="14482"/>
                  <a:pt x="9643" y="14482"/>
                </a:cubicBezTo>
                <a:lnTo>
                  <a:pt x="11306" y="14482"/>
                </a:lnTo>
                <a:cubicBezTo>
                  <a:pt x="12342" y="14482"/>
                  <a:pt x="13142" y="13751"/>
                  <a:pt x="13142" y="12828"/>
                </a:cubicBezTo>
                <a:lnTo>
                  <a:pt x="13142" y="7493"/>
                </a:lnTo>
                <a:lnTo>
                  <a:pt x="11306" y="7493"/>
                </a:lnTo>
                <a:lnTo>
                  <a:pt x="14813" y="3985"/>
                </a:lnTo>
                <a:lnTo>
                  <a:pt x="18486" y="7493"/>
                </a:lnTo>
                <a:lnTo>
                  <a:pt x="16650" y="7493"/>
                </a:lnTo>
                <a:lnTo>
                  <a:pt x="16650" y="12828"/>
                </a:lnTo>
                <a:cubicBezTo>
                  <a:pt x="16650" y="15596"/>
                  <a:pt x="14074" y="18155"/>
                  <a:pt x="11306" y="18155"/>
                </a:cubicBezTo>
                <a:lnTo>
                  <a:pt x="9643" y="18155"/>
                </a:lnTo>
                <a:cubicBezTo>
                  <a:pt x="6876" y="18155"/>
                  <a:pt x="4299" y="15596"/>
                  <a:pt x="429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иванушка.avi" descr=""/>
          <p:cNvPicPr/>
          <p:nvPr/>
        </p:nvPicPr>
        <p:blipFill>
          <a:blip r:embed="rId1"/>
          <a:stretch/>
        </p:blipFill>
        <p:spPr>
          <a:xfrm>
            <a:off x="905040" y="465120"/>
            <a:ext cx="7372080" cy="5897520"/>
          </a:xfrm>
          <a:prstGeom prst="rect">
            <a:avLst/>
          </a:prstGeom>
          <a:ln w="0">
            <a:noFill/>
          </a:ln>
        </p:spPr>
      </p:pic>
      <p:sp>
        <p:nvSpPr>
          <p:cNvPr id="575" name="AutoShape 5">
            <a:hlinkClick r:id="rId2"/>
          </p:cNvPr>
          <p:cNvSpPr/>
          <p:nvPr/>
        </p:nvSpPr>
        <p:spPr>
          <a:xfrm>
            <a:off x="8358120" y="6019920"/>
            <a:ext cx="785880" cy="699840"/>
          </a:xfrm>
          <a:custGeom>
            <a:avLst/>
            <a:gdLst>
              <a:gd name="textAreaLeft" fmla="*/ 45360 w 785880"/>
              <a:gd name="textAreaRight" fmla="*/ 740520 w 785880"/>
              <a:gd name="textAreaTop" fmla="*/ 45360 h 699840"/>
              <a:gd name="textAreaBottom" fmla="*/ 654480 h 699840"/>
            </a:gdLst>
            <a:ahLst/>
            <a:rect l="textAreaLeft" t="textAreaTop" r="textAreaRight" b="textAreaBottom"/>
            <a:pathLst>
              <a:path w="24254" h="21600">
                <a:moveTo>
                  <a:pt x="0" y="0"/>
                </a:moveTo>
                <a:lnTo>
                  <a:pt x="24254" y="0"/>
                </a:lnTo>
                <a:lnTo>
                  <a:pt x="24254" y="21600"/>
                </a:lnTo>
                <a:lnTo>
                  <a:pt x="0" y="21600"/>
                </a:lnTo>
                <a:close/>
              </a:path>
              <a:path fill="lightenLess" w="24254" h="21600">
                <a:moveTo>
                  <a:pt x="0" y="0"/>
                </a:moveTo>
                <a:lnTo>
                  <a:pt x="24254" y="0"/>
                </a:lnTo>
                <a:lnTo>
                  <a:pt x="22854" y="1400"/>
                </a:lnTo>
                <a:lnTo>
                  <a:pt x="1400" y="1400"/>
                </a:lnTo>
                <a:close/>
              </a:path>
              <a:path fill="darken" w="24254" h="21600">
                <a:moveTo>
                  <a:pt x="24254" y="0"/>
                </a:moveTo>
                <a:lnTo>
                  <a:pt x="24254" y="21600"/>
                </a:lnTo>
                <a:lnTo>
                  <a:pt x="22854" y="20200"/>
                </a:lnTo>
                <a:lnTo>
                  <a:pt x="22854" y="1400"/>
                </a:lnTo>
                <a:close/>
              </a:path>
              <a:path fill="darkenLess" w="24254" h="21600">
                <a:moveTo>
                  <a:pt x="24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54" y="20200"/>
                </a:lnTo>
                <a:close/>
              </a:path>
              <a:path fill="lighten" w="24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54" h="21600">
                <a:moveTo>
                  <a:pt x="5121" y="3794"/>
                </a:moveTo>
                <a:lnTo>
                  <a:pt x="19134" y="10800"/>
                </a:lnTo>
                <a:lnTo>
                  <a:pt x="5121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51360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2"/>
          <p:cNvSpPr/>
          <p:nvPr/>
        </p:nvSpPr>
        <p:spPr>
          <a:xfrm>
            <a:off x="871560" y="297000"/>
            <a:ext cx="74595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306440" y="2647800"/>
          <a:ext cx="5388120" cy="3133800"/>
        </p:xfrm>
        <a:graphic>
          <a:graphicData uri="http://schemas.openxmlformats.org/drawingml/2006/table">
            <a:tbl>
              <a:tblPr/>
              <a:tblGrid>
                <a:gridCol w="1719360"/>
                <a:gridCol w="936720"/>
                <a:gridCol w="919080"/>
                <a:gridCol w="825480"/>
                <a:gridCol w="98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Прос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Нарушили 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Обяза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Символ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AutoShape 69">
            <a:hlinkClick r:id="rId1" action="ppaction://hlinksldjump"/>
          </p:cNvPr>
          <p:cNvSpPr/>
          <p:nvPr/>
        </p:nvSpPr>
        <p:spPr>
          <a:xfrm>
            <a:off x="3156120" y="2658960"/>
            <a:ext cx="652320" cy="642960"/>
          </a:xfrm>
          <a:custGeom>
            <a:avLst/>
            <a:gdLst>
              <a:gd name="textAreaLeft" fmla="*/ 41400 w 652320"/>
              <a:gd name="textAreaRight" fmla="*/ 610920 w 6523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914" h="21600">
                <a:moveTo>
                  <a:pt x="0" y="0"/>
                </a:moveTo>
                <a:lnTo>
                  <a:pt x="21914" y="0"/>
                </a:lnTo>
                <a:lnTo>
                  <a:pt x="21914" y="21600"/>
                </a:lnTo>
                <a:lnTo>
                  <a:pt x="0" y="21600"/>
                </a:lnTo>
                <a:close/>
              </a:path>
              <a:path fill="lightenLess" w="21914" h="21600">
                <a:moveTo>
                  <a:pt x="0" y="0"/>
                </a:moveTo>
                <a:lnTo>
                  <a:pt x="21914" y="0"/>
                </a:lnTo>
                <a:lnTo>
                  <a:pt x="20514" y="1400"/>
                </a:lnTo>
                <a:lnTo>
                  <a:pt x="1400" y="1400"/>
                </a:lnTo>
                <a:close/>
              </a:path>
              <a:path fill="darken" w="21914" h="21600">
                <a:moveTo>
                  <a:pt x="21914" y="0"/>
                </a:moveTo>
                <a:lnTo>
                  <a:pt x="21914" y="21600"/>
                </a:lnTo>
                <a:lnTo>
                  <a:pt x="20514" y="20200"/>
                </a:lnTo>
                <a:lnTo>
                  <a:pt x="20514" y="1400"/>
                </a:lnTo>
                <a:close/>
              </a:path>
              <a:path fill="darkenLess" w="21914" h="21600">
                <a:moveTo>
                  <a:pt x="21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4" y="20200"/>
                </a:lnTo>
                <a:close/>
              </a:path>
              <a:path fill="lighten" w="21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71">
            <a:hlinkClick r:id="rId2" action="ppaction://hlinksldjump"/>
          </p:cNvPr>
          <p:cNvSpPr/>
          <p:nvPr/>
        </p:nvSpPr>
        <p:spPr>
          <a:xfrm>
            <a:off x="4086360" y="2678040"/>
            <a:ext cx="699840" cy="604800"/>
          </a:xfrm>
          <a:custGeom>
            <a:avLst/>
            <a:gdLst>
              <a:gd name="textAreaLeft" fmla="*/ 38880 w 699840"/>
              <a:gd name="textAreaRight" fmla="*/ 660960 w 69984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4992" h="21600">
                <a:moveTo>
                  <a:pt x="0" y="0"/>
                </a:moveTo>
                <a:lnTo>
                  <a:pt x="24992" y="0"/>
                </a:lnTo>
                <a:lnTo>
                  <a:pt x="24992" y="21600"/>
                </a:lnTo>
                <a:lnTo>
                  <a:pt x="0" y="21600"/>
                </a:lnTo>
                <a:close/>
              </a:path>
              <a:path fill="lightenLess" w="24992" h="21600">
                <a:moveTo>
                  <a:pt x="0" y="0"/>
                </a:moveTo>
                <a:lnTo>
                  <a:pt x="24992" y="0"/>
                </a:lnTo>
                <a:lnTo>
                  <a:pt x="23592" y="1400"/>
                </a:lnTo>
                <a:lnTo>
                  <a:pt x="1400" y="1400"/>
                </a:lnTo>
                <a:close/>
              </a:path>
              <a:path fill="darken" w="24992" h="21600">
                <a:moveTo>
                  <a:pt x="24992" y="0"/>
                </a:moveTo>
                <a:lnTo>
                  <a:pt x="24992" y="21600"/>
                </a:lnTo>
                <a:lnTo>
                  <a:pt x="23592" y="20200"/>
                </a:lnTo>
                <a:lnTo>
                  <a:pt x="23592" y="1400"/>
                </a:lnTo>
                <a:close/>
              </a:path>
              <a:path fill="darkenLess" w="24992" h="21600">
                <a:moveTo>
                  <a:pt x="24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2" y="20200"/>
                </a:lnTo>
                <a:close/>
              </a:path>
              <a:path fill="lighten" w="24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2">
            <a:hlinkClick r:id="rId3" action="ppaction://hlinksldjump"/>
          </p:cNvPr>
          <p:cNvSpPr/>
          <p:nvPr/>
        </p:nvSpPr>
        <p:spPr>
          <a:xfrm>
            <a:off x="3152880" y="3429000"/>
            <a:ext cx="718920" cy="623880"/>
          </a:xfrm>
          <a:custGeom>
            <a:avLst/>
            <a:gdLst>
              <a:gd name="textAreaLeft" fmla="*/ 40320 w 718920"/>
              <a:gd name="textAreaRight" fmla="*/ 678600 w 718920"/>
              <a:gd name="textAreaTop" fmla="*/ 40320 h 623880"/>
              <a:gd name="textAreaBottom" fmla="*/ 583560 h 623880"/>
            </a:gdLst>
            <a:ahLst/>
            <a:rect l="textAreaLeft" t="textAreaTop" r="textAreaRight" b="textAreaBottom"/>
            <a:pathLst>
              <a:path w="24889" h="21600">
                <a:moveTo>
                  <a:pt x="0" y="0"/>
                </a:moveTo>
                <a:lnTo>
                  <a:pt x="24889" y="0"/>
                </a:lnTo>
                <a:lnTo>
                  <a:pt x="24889" y="21600"/>
                </a:lnTo>
                <a:lnTo>
                  <a:pt x="0" y="21600"/>
                </a:lnTo>
                <a:close/>
              </a:path>
              <a:path fill="lightenLess" w="24889" h="21600">
                <a:moveTo>
                  <a:pt x="0" y="0"/>
                </a:moveTo>
                <a:lnTo>
                  <a:pt x="24889" y="0"/>
                </a:lnTo>
                <a:lnTo>
                  <a:pt x="23489" y="1400"/>
                </a:lnTo>
                <a:lnTo>
                  <a:pt x="1400" y="1400"/>
                </a:lnTo>
                <a:close/>
              </a:path>
              <a:path fill="darken" w="24889" h="21600">
                <a:moveTo>
                  <a:pt x="24889" y="0"/>
                </a:moveTo>
                <a:lnTo>
                  <a:pt x="24889" y="21600"/>
                </a:lnTo>
                <a:lnTo>
                  <a:pt x="23489" y="20200"/>
                </a:lnTo>
                <a:lnTo>
                  <a:pt x="23489" y="1400"/>
                </a:lnTo>
                <a:close/>
              </a:path>
              <a:path fill="darkenLess" w="24889" h="21600">
                <a:moveTo>
                  <a:pt x="24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9" y="20200"/>
                </a:lnTo>
                <a:close/>
              </a:path>
              <a:path fill="lighten" w="24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4">
            <a:hlinkClick r:id="rId4" action="ppaction://hlinksldjump"/>
          </p:cNvPr>
          <p:cNvSpPr/>
          <p:nvPr/>
        </p:nvSpPr>
        <p:spPr>
          <a:xfrm>
            <a:off x="4057560" y="3429000"/>
            <a:ext cx="709560" cy="604800"/>
          </a:xfrm>
          <a:custGeom>
            <a:avLst/>
            <a:gdLst>
              <a:gd name="textAreaLeft" fmla="*/ 38880 w 709560"/>
              <a:gd name="textAreaRight" fmla="*/ 670680 w 70956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5339" h="21600">
                <a:moveTo>
                  <a:pt x="0" y="0"/>
                </a:moveTo>
                <a:lnTo>
                  <a:pt x="25339" y="0"/>
                </a:lnTo>
                <a:lnTo>
                  <a:pt x="25339" y="21600"/>
                </a:lnTo>
                <a:lnTo>
                  <a:pt x="0" y="21600"/>
                </a:lnTo>
                <a:close/>
              </a:path>
              <a:path fill="lightenLess" w="25339" h="21600">
                <a:moveTo>
                  <a:pt x="0" y="0"/>
                </a:moveTo>
                <a:lnTo>
                  <a:pt x="25339" y="0"/>
                </a:lnTo>
                <a:lnTo>
                  <a:pt x="23939" y="1400"/>
                </a:lnTo>
                <a:lnTo>
                  <a:pt x="1400" y="1400"/>
                </a:lnTo>
                <a:close/>
              </a:path>
              <a:path fill="darken" w="25339" h="21600">
                <a:moveTo>
                  <a:pt x="25339" y="0"/>
                </a:moveTo>
                <a:lnTo>
                  <a:pt x="25339" y="21600"/>
                </a:lnTo>
                <a:lnTo>
                  <a:pt x="23939" y="20200"/>
                </a:lnTo>
                <a:lnTo>
                  <a:pt x="23939" y="1400"/>
                </a:lnTo>
                <a:close/>
              </a:path>
              <a:path fill="darkenLess" w="25339" h="21600">
                <a:moveTo>
                  <a:pt x="25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9" y="20200"/>
                </a:lnTo>
                <a:close/>
              </a:path>
              <a:path fill="lighten" w="25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6">
            <a:hlinkClick r:id="rId5" action="ppaction://hlinksldjump"/>
          </p:cNvPr>
          <p:cNvSpPr/>
          <p:nvPr/>
        </p:nvSpPr>
        <p:spPr>
          <a:xfrm>
            <a:off x="4978440" y="3395520"/>
            <a:ext cx="679320" cy="673200"/>
          </a:xfrm>
          <a:custGeom>
            <a:avLst/>
            <a:gdLst>
              <a:gd name="textAreaLeft" fmla="*/ 43560 w 679320"/>
              <a:gd name="textAreaRight" fmla="*/ 635760 w 679320"/>
              <a:gd name="textAreaTop" fmla="*/ 43560 h 673200"/>
              <a:gd name="textAreaBottom" fmla="*/ 629640 h 673200"/>
            </a:gdLst>
            <a:ahLst/>
            <a:rect l="textAreaLeft" t="textAreaTop" r="textAreaRight" b="textAreaBottom"/>
            <a:pathLst>
              <a:path w="21796" h="21600">
                <a:moveTo>
                  <a:pt x="0" y="0"/>
                </a:moveTo>
                <a:lnTo>
                  <a:pt x="21796" y="0"/>
                </a:lnTo>
                <a:lnTo>
                  <a:pt x="21796" y="21600"/>
                </a:lnTo>
                <a:lnTo>
                  <a:pt x="0" y="21600"/>
                </a:lnTo>
                <a:close/>
              </a:path>
              <a:path fill="lightenLess" w="21796" h="21600">
                <a:moveTo>
                  <a:pt x="0" y="0"/>
                </a:moveTo>
                <a:lnTo>
                  <a:pt x="21796" y="0"/>
                </a:lnTo>
                <a:lnTo>
                  <a:pt x="20396" y="1400"/>
                </a:lnTo>
                <a:lnTo>
                  <a:pt x="1400" y="1400"/>
                </a:lnTo>
                <a:close/>
              </a:path>
              <a:path fill="darken" w="21796" h="21600">
                <a:moveTo>
                  <a:pt x="21796" y="0"/>
                </a:moveTo>
                <a:lnTo>
                  <a:pt x="21796" y="21600"/>
                </a:lnTo>
                <a:lnTo>
                  <a:pt x="20396" y="20200"/>
                </a:lnTo>
                <a:lnTo>
                  <a:pt x="20396" y="1400"/>
                </a:lnTo>
                <a:close/>
              </a:path>
              <a:path fill="darkenLess" w="21796" h="21600">
                <a:moveTo>
                  <a:pt x="21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96" y="20200"/>
                </a:lnTo>
                <a:close/>
              </a:path>
              <a:path fill="lighten" w="21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78">
            <a:hlinkClick r:id="rId6" action="ppaction://hlinksldjump"/>
          </p:cNvPr>
          <p:cNvSpPr/>
          <p:nvPr/>
        </p:nvSpPr>
        <p:spPr>
          <a:xfrm>
            <a:off x="5848200" y="3433680"/>
            <a:ext cx="652680" cy="644760"/>
          </a:xfrm>
          <a:custGeom>
            <a:avLst/>
            <a:gdLst>
              <a:gd name="textAreaLeft" fmla="*/ 41760 w 652680"/>
              <a:gd name="textAreaRight" fmla="*/ 610920 w 652680"/>
              <a:gd name="textAreaTop" fmla="*/ 41760 h 644760"/>
              <a:gd name="textAreaBottom" fmla="*/ 603000 h 644760"/>
            </a:gdLst>
            <a:ahLst/>
            <a:rect l="textAreaLeft" t="textAreaTop" r="textAreaRight" b="textAreaBottom"/>
            <a:pathLst>
              <a:path w="21865" h="21600">
                <a:moveTo>
                  <a:pt x="0" y="0"/>
                </a:moveTo>
                <a:lnTo>
                  <a:pt x="21865" y="0"/>
                </a:lnTo>
                <a:lnTo>
                  <a:pt x="21865" y="21600"/>
                </a:lnTo>
                <a:lnTo>
                  <a:pt x="0" y="21600"/>
                </a:lnTo>
                <a:close/>
              </a:path>
              <a:path fill="lightenLess" w="21865" h="21600">
                <a:moveTo>
                  <a:pt x="0" y="0"/>
                </a:moveTo>
                <a:lnTo>
                  <a:pt x="21865" y="0"/>
                </a:lnTo>
                <a:lnTo>
                  <a:pt x="20465" y="1400"/>
                </a:lnTo>
                <a:lnTo>
                  <a:pt x="1400" y="1400"/>
                </a:lnTo>
                <a:close/>
              </a:path>
              <a:path fill="darken" w="21865" h="21600">
                <a:moveTo>
                  <a:pt x="21865" y="0"/>
                </a:moveTo>
                <a:lnTo>
                  <a:pt x="21865" y="21600"/>
                </a:lnTo>
                <a:lnTo>
                  <a:pt x="20465" y="20200"/>
                </a:lnTo>
                <a:lnTo>
                  <a:pt x="20465" y="1400"/>
                </a:lnTo>
                <a:close/>
              </a:path>
              <a:path fill="darkenLess" w="21865" h="21600">
                <a:moveTo>
                  <a:pt x="21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65" y="20200"/>
                </a:lnTo>
                <a:close/>
              </a:path>
              <a:path fill="lighten" w="21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81">
            <a:hlinkClick r:id="rId7" action="ppaction://hlinksldjump"/>
          </p:cNvPr>
          <p:cNvSpPr/>
          <p:nvPr/>
        </p:nvSpPr>
        <p:spPr>
          <a:xfrm>
            <a:off x="4948200" y="2649600"/>
            <a:ext cx="690480" cy="604800"/>
          </a:xfrm>
          <a:custGeom>
            <a:avLst/>
            <a:gdLst>
              <a:gd name="textAreaLeft" fmla="*/ 38880 w 690480"/>
              <a:gd name="textAreaRight" fmla="*/ 651600 w 69048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4658" h="21600">
                <a:moveTo>
                  <a:pt x="0" y="0"/>
                </a:moveTo>
                <a:lnTo>
                  <a:pt x="24658" y="0"/>
                </a:lnTo>
                <a:lnTo>
                  <a:pt x="24658" y="21600"/>
                </a:lnTo>
                <a:lnTo>
                  <a:pt x="0" y="21600"/>
                </a:lnTo>
                <a:close/>
              </a:path>
              <a:path fill="lightenLess" w="24658" h="21600">
                <a:moveTo>
                  <a:pt x="0" y="0"/>
                </a:moveTo>
                <a:lnTo>
                  <a:pt x="24658" y="0"/>
                </a:lnTo>
                <a:lnTo>
                  <a:pt x="23258" y="1400"/>
                </a:lnTo>
                <a:lnTo>
                  <a:pt x="1400" y="1400"/>
                </a:lnTo>
                <a:close/>
              </a:path>
              <a:path fill="darken" w="24658" h="21600">
                <a:moveTo>
                  <a:pt x="24658" y="0"/>
                </a:moveTo>
                <a:lnTo>
                  <a:pt x="24658" y="21600"/>
                </a:lnTo>
                <a:lnTo>
                  <a:pt x="23258" y="20200"/>
                </a:lnTo>
                <a:lnTo>
                  <a:pt x="23258" y="1400"/>
                </a:lnTo>
                <a:close/>
              </a:path>
              <a:path fill="darkenLess" w="24658" h="21600">
                <a:moveTo>
                  <a:pt x="24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8" y="20200"/>
                </a:lnTo>
                <a:close/>
              </a:path>
              <a:path fill="lighten" w="24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84">
            <a:hlinkClick r:id="rId8" action="ppaction://hlinksldjump"/>
          </p:cNvPr>
          <p:cNvSpPr/>
          <p:nvPr/>
        </p:nvSpPr>
        <p:spPr>
          <a:xfrm>
            <a:off x="3176640" y="4226040"/>
            <a:ext cx="700200" cy="662040"/>
          </a:xfrm>
          <a:custGeom>
            <a:avLst/>
            <a:gdLst>
              <a:gd name="textAreaLeft" fmla="*/ 42840 w 700200"/>
              <a:gd name="textAreaRight" fmla="*/ 657360 w 7002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844" h="21600">
                <a:moveTo>
                  <a:pt x="0" y="0"/>
                </a:moveTo>
                <a:lnTo>
                  <a:pt x="22844" y="0"/>
                </a:lnTo>
                <a:lnTo>
                  <a:pt x="22844" y="21600"/>
                </a:lnTo>
                <a:lnTo>
                  <a:pt x="0" y="21600"/>
                </a:lnTo>
                <a:close/>
              </a:path>
              <a:path fill="lightenLess" w="22844" h="21600">
                <a:moveTo>
                  <a:pt x="0" y="0"/>
                </a:moveTo>
                <a:lnTo>
                  <a:pt x="22844" y="0"/>
                </a:lnTo>
                <a:lnTo>
                  <a:pt x="21444" y="1400"/>
                </a:lnTo>
                <a:lnTo>
                  <a:pt x="1400" y="1400"/>
                </a:lnTo>
                <a:close/>
              </a:path>
              <a:path fill="darken" w="22844" h="21600">
                <a:moveTo>
                  <a:pt x="22844" y="0"/>
                </a:moveTo>
                <a:lnTo>
                  <a:pt x="22844" y="21600"/>
                </a:lnTo>
                <a:lnTo>
                  <a:pt x="21444" y="20200"/>
                </a:lnTo>
                <a:lnTo>
                  <a:pt x="21444" y="1400"/>
                </a:lnTo>
                <a:close/>
              </a:path>
              <a:path fill="darkenLess" w="22844" h="21600">
                <a:moveTo>
                  <a:pt x="22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4" y="20200"/>
                </a:lnTo>
                <a:close/>
              </a:path>
              <a:path fill="lighten" w="22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85">
            <a:hlinkClick r:id="rId9" action="ppaction://hlinksldjump"/>
          </p:cNvPr>
          <p:cNvSpPr/>
          <p:nvPr/>
        </p:nvSpPr>
        <p:spPr>
          <a:xfrm>
            <a:off x="4065480" y="4229280"/>
            <a:ext cx="700200" cy="661680"/>
          </a:xfrm>
          <a:custGeom>
            <a:avLst/>
            <a:gdLst>
              <a:gd name="textAreaLeft" fmla="*/ 42840 w 700200"/>
              <a:gd name="textAreaRight" fmla="*/ 657360 w 700200"/>
              <a:gd name="textAreaTop" fmla="*/ 42840 h 661680"/>
              <a:gd name="textAreaBottom" fmla="*/ 618840 h 661680"/>
            </a:gdLst>
            <a:ahLst/>
            <a:rect l="textAreaLeft" t="textAreaTop" r="textAreaRight" b="textAreaBottom"/>
            <a:pathLst>
              <a:path w="22857" h="21600">
                <a:moveTo>
                  <a:pt x="0" y="0"/>
                </a:moveTo>
                <a:lnTo>
                  <a:pt x="22857" y="0"/>
                </a:lnTo>
                <a:lnTo>
                  <a:pt x="22857" y="21600"/>
                </a:lnTo>
                <a:lnTo>
                  <a:pt x="0" y="21600"/>
                </a:lnTo>
                <a:close/>
              </a:path>
              <a:path fill="lightenLess" w="22857" h="21600">
                <a:moveTo>
                  <a:pt x="0" y="0"/>
                </a:moveTo>
                <a:lnTo>
                  <a:pt x="22857" y="0"/>
                </a:lnTo>
                <a:lnTo>
                  <a:pt x="21457" y="1400"/>
                </a:lnTo>
                <a:lnTo>
                  <a:pt x="1400" y="1400"/>
                </a:lnTo>
                <a:close/>
              </a:path>
              <a:path fill="darken" w="22857" h="21600">
                <a:moveTo>
                  <a:pt x="22857" y="0"/>
                </a:moveTo>
                <a:lnTo>
                  <a:pt x="22857" y="21600"/>
                </a:lnTo>
                <a:lnTo>
                  <a:pt x="21457" y="20200"/>
                </a:lnTo>
                <a:lnTo>
                  <a:pt x="21457" y="1400"/>
                </a:lnTo>
                <a:close/>
              </a:path>
              <a:path fill="darkenLess" w="22857" h="21600">
                <a:moveTo>
                  <a:pt x="22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7" y="20200"/>
                </a:lnTo>
                <a:close/>
              </a:path>
              <a:path fill="lighten" w="22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6">
            <a:hlinkClick r:id="rId10" action="ppaction://hlinksldjump"/>
          </p:cNvPr>
          <p:cNvSpPr/>
          <p:nvPr/>
        </p:nvSpPr>
        <p:spPr>
          <a:xfrm>
            <a:off x="4967280" y="4245120"/>
            <a:ext cx="652320" cy="645840"/>
          </a:xfrm>
          <a:custGeom>
            <a:avLst/>
            <a:gdLst>
              <a:gd name="textAreaLeft" fmla="*/ 41760 w 652320"/>
              <a:gd name="textAreaRight" fmla="*/ 610560 w 652320"/>
              <a:gd name="textAreaTop" fmla="*/ 41760 h 645840"/>
              <a:gd name="textAreaBottom" fmla="*/ 604080 h 645840"/>
            </a:gdLst>
            <a:ahLst/>
            <a:rect l="textAreaLeft" t="textAreaTop" r="textAreaRight" b="textAreaBottom"/>
            <a:pathLst>
              <a:path w="21817" h="21600">
                <a:moveTo>
                  <a:pt x="0" y="0"/>
                </a:moveTo>
                <a:lnTo>
                  <a:pt x="21817" y="0"/>
                </a:lnTo>
                <a:lnTo>
                  <a:pt x="21817" y="21600"/>
                </a:lnTo>
                <a:lnTo>
                  <a:pt x="0" y="21600"/>
                </a:lnTo>
                <a:close/>
              </a:path>
              <a:path fill="lightenLess" w="21817" h="21600">
                <a:moveTo>
                  <a:pt x="0" y="0"/>
                </a:moveTo>
                <a:lnTo>
                  <a:pt x="21817" y="0"/>
                </a:lnTo>
                <a:lnTo>
                  <a:pt x="20417" y="1400"/>
                </a:lnTo>
                <a:lnTo>
                  <a:pt x="1400" y="1400"/>
                </a:lnTo>
                <a:close/>
              </a:path>
              <a:path fill="darken" w="21817" h="21600">
                <a:moveTo>
                  <a:pt x="21817" y="0"/>
                </a:moveTo>
                <a:lnTo>
                  <a:pt x="21817" y="21600"/>
                </a:lnTo>
                <a:lnTo>
                  <a:pt x="20417" y="20200"/>
                </a:lnTo>
                <a:lnTo>
                  <a:pt x="20417" y="1400"/>
                </a:lnTo>
                <a:close/>
              </a:path>
              <a:path fill="darkenLess" w="21817" h="21600">
                <a:moveTo>
                  <a:pt x="21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7" y="20200"/>
                </a:lnTo>
                <a:close/>
              </a:path>
              <a:path fill="lighten" w="21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87">
            <a:hlinkClick r:id="rId11" action="ppaction://hlinksldjump"/>
          </p:cNvPr>
          <p:cNvSpPr/>
          <p:nvPr/>
        </p:nvSpPr>
        <p:spPr>
          <a:xfrm>
            <a:off x="5862600" y="4254480"/>
            <a:ext cx="681120" cy="650880"/>
          </a:xfrm>
          <a:custGeom>
            <a:avLst/>
            <a:gdLst>
              <a:gd name="textAreaLeft" fmla="*/ 42120 w 681120"/>
              <a:gd name="textAreaRight" fmla="*/ 639000 w 681120"/>
              <a:gd name="textAreaTop" fmla="*/ 42120 h 650880"/>
              <a:gd name="textAreaBottom" fmla="*/ 608760 h 650880"/>
            </a:gdLst>
            <a:ahLst/>
            <a:rect l="textAreaLeft" t="textAreaTop" r="textAreaRight" b="textAreaBottom"/>
            <a:pathLst>
              <a:path w="22603" h="21600">
                <a:moveTo>
                  <a:pt x="0" y="0"/>
                </a:moveTo>
                <a:lnTo>
                  <a:pt x="22603" y="0"/>
                </a:lnTo>
                <a:lnTo>
                  <a:pt x="22603" y="21600"/>
                </a:lnTo>
                <a:lnTo>
                  <a:pt x="0" y="21600"/>
                </a:lnTo>
                <a:close/>
              </a:path>
              <a:path fill="lightenLess" w="22603" h="21600">
                <a:moveTo>
                  <a:pt x="0" y="0"/>
                </a:moveTo>
                <a:lnTo>
                  <a:pt x="22603" y="0"/>
                </a:lnTo>
                <a:lnTo>
                  <a:pt x="21203" y="1400"/>
                </a:lnTo>
                <a:lnTo>
                  <a:pt x="1400" y="1400"/>
                </a:lnTo>
                <a:close/>
              </a:path>
              <a:path fill="darken" w="22603" h="21600">
                <a:moveTo>
                  <a:pt x="22603" y="0"/>
                </a:moveTo>
                <a:lnTo>
                  <a:pt x="22603" y="21600"/>
                </a:lnTo>
                <a:lnTo>
                  <a:pt x="21203" y="20200"/>
                </a:lnTo>
                <a:lnTo>
                  <a:pt x="21203" y="1400"/>
                </a:lnTo>
                <a:close/>
              </a:path>
              <a:path fill="darkenLess" w="22603" h="21600">
                <a:moveTo>
                  <a:pt x="22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3" y="20200"/>
                </a:lnTo>
                <a:close/>
              </a:path>
              <a:path fill="lighten" w="22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89">
            <a:hlinkClick r:id="rId12" action="ppaction://hlinksldjump"/>
          </p:cNvPr>
          <p:cNvSpPr/>
          <p:nvPr/>
        </p:nvSpPr>
        <p:spPr>
          <a:xfrm>
            <a:off x="3137040" y="503064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90">
            <a:hlinkClick r:id="rId13" action="ppaction://hlinksldjump"/>
          </p:cNvPr>
          <p:cNvSpPr/>
          <p:nvPr/>
        </p:nvSpPr>
        <p:spPr>
          <a:xfrm>
            <a:off x="4105440" y="5024520"/>
            <a:ext cx="738000" cy="652320"/>
          </a:xfrm>
          <a:custGeom>
            <a:avLst/>
            <a:gdLst>
              <a:gd name="textAreaLeft" fmla="*/ 42120 w 738000"/>
              <a:gd name="textAreaRight" fmla="*/ 695880 w 738000"/>
              <a:gd name="textAreaTop" fmla="*/ 42120 h 652320"/>
              <a:gd name="textAreaBottom" fmla="*/ 610200 h 652320"/>
            </a:gdLst>
            <a:ahLst/>
            <a:rect l="textAreaLeft" t="textAreaTop" r="textAreaRight" b="textAreaBottom"/>
            <a:pathLst>
              <a:path w="24436" h="21600">
                <a:moveTo>
                  <a:pt x="0" y="0"/>
                </a:moveTo>
                <a:lnTo>
                  <a:pt x="24436" y="0"/>
                </a:lnTo>
                <a:lnTo>
                  <a:pt x="24436" y="21600"/>
                </a:lnTo>
                <a:lnTo>
                  <a:pt x="0" y="21600"/>
                </a:lnTo>
                <a:close/>
              </a:path>
              <a:path fill="lightenLess" w="24436" h="21600">
                <a:moveTo>
                  <a:pt x="0" y="0"/>
                </a:moveTo>
                <a:lnTo>
                  <a:pt x="24436" y="0"/>
                </a:lnTo>
                <a:lnTo>
                  <a:pt x="23036" y="1400"/>
                </a:lnTo>
                <a:lnTo>
                  <a:pt x="1400" y="1400"/>
                </a:lnTo>
                <a:close/>
              </a:path>
              <a:path fill="darken" w="24436" h="21600">
                <a:moveTo>
                  <a:pt x="24436" y="0"/>
                </a:moveTo>
                <a:lnTo>
                  <a:pt x="24436" y="21600"/>
                </a:lnTo>
                <a:lnTo>
                  <a:pt x="23036" y="20200"/>
                </a:lnTo>
                <a:lnTo>
                  <a:pt x="23036" y="1400"/>
                </a:lnTo>
                <a:close/>
              </a:path>
              <a:path fill="darkenLess" w="24436" h="21600">
                <a:moveTo>
                  <a:pt x="24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36" y="20200"/>
                </a:lnTo>
                <a:close/>
              </a:path>
              <a:path fill="lighten" w="24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59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91">
            <a:hlinkClick r:id="rId14" action="ppaction://hlinksldjump"/>
          </p:cNvPr>
          <p:cNvSpPr/>
          <p:nvPr/>
        </p:nvSpPr>
        <p:spPr>
          <a:xfrm>
            <a:off x="4929120" y="5040360"/>
            <a:ext cx="719280" cy="620640"/>
          </a:xfrm>
          <a:custGeom>
            <a:avLst/>
            <a:gdLst>
              <a:gd name="textAreaLeft" fmla="*/ 39960 w 719280"/>
              <a:gd name="textAreaRight" fmla="*/ 679320 w 719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31" h="21600">
                <a:moveTo>
                  <a:pt x="0" y="0"/>
                </a:moveTo>
                <a:lnTo>
                  <a:pt x="25031" y="0"/>
                </a:lnTo>
                <a:lnTo>
                  <a:pt x="25031" y="21600"/>
                </a:lnTo>
                <a:lnTo>
                  <a:pt x="0" y="21600"/>
                </a:lnTo>
                <a:close/>
              </a:path>
              <a:path fill="lightenLess" w="25031" h="21600">
                <a:moveTo>
                  <a:pt x="0" y="0"/>
                </a:moveTo>
                <a:lnTo>
                  <a:pt x="25031" y="0"/>
                </a:lnTo>
                <a:lnTo>
                  <a:pt x="23631" y="1400"/>
                </a:lnTo>
                <a:lnTo>
                  <a:pt x="1400" y="1400"/>
                </a:lnTo>
                <a:close/>
              </a:path>
              <a:path fill="darken" w="25031" h="21600">
                <a:moveTo>
                  <a:pt x="25031" y="0"/>
                </a:moveTo>
                <a:lnTo>
                  <a:pt x="25031" y="21600"/>
                </a:lnTo>
                <a:lnTo>
                  <a:pt x="23631" y="20200"/>
                </a:lnTo>
                <a:lnTo>
                  <a:pt x="23631" y="1400"/>
                </a:lnTo>
                <a:close/>
              </a:path>
              <a:path fill="darkenLess" w="25031" h="21600">
                <a:moveTo>
                  <a:pt x="25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1" y="20200"/>
                </a:lnTo>
                <a:close/>
              </a:path>
              <a:path fill="lighten" w="25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59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92">
            <a:hlinkClick r:id="rId15" action="ppaction://hlinksldjump"/>
          </p:cNvPr>
          <p:cNvSpPr/>
          <p:nvPr/>
        </p:nvSpPr>
        <p:spPr>
          <a:xfrm>
            <a:off x="5824440" y="5005440"/>
            <a:ext cx="728640" cy="662040"/>
          </a:xfrm>
          <a:custGeom>
            <a:avLst/>
            <a:gdLst>
              <a:gd name="textAreaLeft" fmla="*/ 42840 w 728640"/>
              <a:gd name="textAreaRight" fmla="*/ 685800 w 7286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3772" h="21600">
                <a:moveTo>
                  <a:pt x="0" y="0"/>
                </a:moveTo>
                <a:lnTo>
                  <a:pt x="23772" y="0"/>
                </a:lnTo>
                <a:lnTo>
                  <a:pt x="23772" y="21600"/>
                </a:lnTo>
                <a:lnTo>
                  <a:pt x="0" y="21600"/>
                </a:lnTo>
                <a:close/>
              </a:path>
              <a:path fill="lightenLess" w="23772" h="21600">
                <a:moveTo>
                  <a:pt x="0" y="0"/>
                </a:moveTo>
                <a:lnTo>
                  <a:pt x="23772" y="0"/>
                </a:lnTo>
                <a:lnTo>
                  <a:pt x="22372" y="1400"/>
                </a:lnTo>
                <a:lnTo>
                  <a:pt x="1400" y="1400"/>
                </a:lnTo>
                <a:close/>
              </a:path>
              <a:path fill="darken" w="23772" h="21600">
                <a:moveTo>
                  <a:pt x="23772" y="0"/>
                </a:moveTo>
                <a:lnTo>
                  <a:pt x="23772" y="21600"/>
                </a:lnTo>
                <a:lnTo>
                  <a:pt x="22372" y="20200"/>
                </a:lnTo>
                <a:lnTo>
                  <a:pt x="22372" y="1400"/>
                </a:lnTo>
                <a:close/>
              </a:path>
              <a:path fill="darkenLess" w="23772" h="21600">
                <a:moveTo>
                  <a:pt x="23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2" y="20200"/>
                </a:lnTo>
                <a:close/>
              </a:path>
              <a:path fill="lighten" w="23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59c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94">
            <a:hlinkClick r:id="rId16" action="ppaction://hlinksldjump"/>
          </p:cNvPr>
          <p:cNvSpPr/>
          <p:nvPr/>
        </p:nvSpPr>
        <p:spPr>
          <a:xfrm>
            <a:off x="5886360" y="2673360"/>
            <a:ext cx="681120" cy="614520"/>
          </a:xfrm>
          <a:custGeom>
            <a:avLst/>
            <a:gdLst>
              <a:gd name="textAreaLeft" fmla="*/ 39600 w 681120"/>
              <a:gd name="textAreaRight" fmla="*/ 641520 w 68112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3940" h="21600">
                <a:moveTo>
                  <a:pt x="0" y="0"/>
                </a:moveTo>
                <a:lnTo>
                  <a:pt x="23940" y="0"/>
                </a:lnTo>
                <a:lnTo>
                  <a:pt x="23940" y="21600"/>
                </a:lnTo>
                <a:lnTo>
                  <a:pt x="0" y="21600"/>
                </a:lnTo>
                <a:close/>
              </a:path>
              <a:path fill="lightenLess" w="23940" h="21600">
                <a:moveTo>
                  <a:pt x="0" y="0"/>
                </a:moveTo>
                <a:lnTo>
                  <a:pt x="23940" y="0"/>
                </a:lnTo>
                <a:lnTo>
                  <a:pt x="22540" y="1400"/>
                </a:lnTo>
                <a:lnTo>
                  <a:pt x="1400" y="1400"/>
                </a:lnTo>
                <a:close/>
              </a:path>
              <a:path fill="darken" w="23940" h="21600">
                <a:moveTo>
                  <a:pt x="23940" y="0"/>
                </a:moveTo>
                <a:lnTo>
                  <a:pt x="23940" y="21600"/>
                </a:lnTo>
                <a:lnTo>
                  <a:pt x="22540" y="20200"/>
                </a:lnTo>
                <a:lnTo>
                  <a:pt x="22540" y="1400"/>
                </a:lnTo>
                <a:close/>
              </a:path>
              <a:path fill="darkenLess" w="23940" h="21600">
                <a:moveTo>
                  <a:pt x="23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40" y="20200"/>
                </a:lnTo>
                <a:close/>
              </a:path>
              <a:path fill="lighten" w="23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1"/>
          <p:cNvSpPr/>
          <p:nvPr/>
        </p:nvSpPr>
        <p:spPr>
          <a:xfrm>
            <a:off x="855720" y="917640"/>
            <a:ext cx="743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ОНСТИТУЦИЯ  И  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960480" y="38412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2504160" y="1568520"/>
            <a:ext cx="50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атья 20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1571760" y="260496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 имеет  право  на  жизн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7763040" y="5762520"/>
            <a:ext cx="795240" cy="795600"/>
          </a:xfrm>
          <a:custGeom>
            <a:avLst/>
            <a:gdLst>
              <a:gd name="textAreaLeft" fmla="*/ 51480 w 795240"/>
              <a:gd name="textAreaRight" fmla="*/ 743760 w 795240"/>
              <a:gd name="textAreaTop" fmla="*/ 51480 h 795600"/>
              <a:gd name="textAreaBottom" fmla="*/ 744120 h 79560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7"/>
                </a:moveTo>
                <a:lnTo>
                  <a:pt x="7301" y="7497"/>
                </a:lnTo>
                <a:lnTo>
                  <a:pt x="7301" y="12833"/>
                </a:lnTo>
                <a:cubicBezTo>
                  <a:pt x="7301" y="13755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5"/>
                  <a:pt x="12636" y="12833"/>
                </a:cubicBezTo>
                <a:lnTo>
                  <a:pt x="12636" y="7497"/>
                </a:lnTo>
                <a:lnTo>
                  <a:pt x="10800" y="7497"/>
                </a:lnTo>
                <a:lnTo>
                  <a:pt x="14308" y="3990"/>
                </a:lnTo>
                <a:lnTo>
                  <a:pt x="17981" y="7497"/>
                </a:lnTo>
                <a:lnTo>
                  <a:pt x="16144" y="7497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Обязанност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6">
            <a:hlinkClick r:id="rId1"/>
          </p:cNvPr>
          <p:cNvSpPr/>
          <p:nvPr/>
        </p:nvSpPr>
        <p:spPr>
          <a:xfrm>
            <a:off x="8026560" y="5918040"/>
            <a:ext cx="871200" cy="722520"/>
          </a:xfrm>
          <a:custGeom>
            <a:avLst/>
            <a:gdLst>
              <a:gd name="textAreaLeft" fmla="*/ 46800 w 871200"/>
              <a:gd name="textAreaRight" fmla="*/ 824400 w 871200"/>
              <a:gd name="textAreaTop" fmla="*/ 46800 h 722520"/>
              <a:gd name="textAreaBottom" fmla="*/ 675720 h 722520"/>
            </a:gdLst>
            <a:ahLst/>
            <a:rect l="textAreaLeft" t="textAreaTop" r="textAreaRight" b="textAreaBottom"/>
            <a:pathLst>
              <a:path w="26043" h="21600">
                <a:moveTo>
                  <a:pt x="0" y="0"/>
                </a:moveTo>
                <a:lnTo>
                  <a:pt x="26043" y="0"/>
                </a:lnTo>
                <a:lnTo>
                  <a:pt x="26043" y="21600"/>
                </a:lnTo>
                <a:lnTo>
                  <a:pt x="0" y="21600"/>
                </a:lnTo>
                <a:close/>
              </a:path>
              <a:path fill="lightenLess" w="26043" h="21600">
                <a:moveTo>
                  <a:pt x="0" y="0"/>
                </a:moveTo>
                <a:lnTo>
                  <a:pt x="26043" y="0"/>
                </a:lnTo>
                <a:lnTo>
                  <a:pt x="24643" y="1400"/>
                </a:lnTo>
                <a:lnTo>
                  <a:pt x="1400" y="1400"/>
                </a:lnTo>
                <a:close/>
              </a:path>
              <a:path fill="darken" w="26043" h="21600">
                <a:moveTo>
                  <a:pt x="26043" y="0"/>
                </a:moveTo>
                <a:lnTo>
                  <a:pt x="26043" y="21600"/>
                </a:lnTo>
                <a:lnTo>
                  <a:pt x="24643" y="20200"/>
                </a:lnTo>
                <a:lnTo>
                  <a:pt x="24643" y="1400"/>
                </a:lnTo>
                <a:close/>
              </a:path>
              <a:path fill="darkenLess" w="26043" h="21600">
                <a:moveTo>
                  <a:pt x="26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43" y="20200"/>
                </a:lnTo>
                <a:close/>
              </a:path>
              <a:path fill="lighten" w="26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43" h="21600">
                <a:moveTo>
                  <a:pt x="6015" y="3794"/>
                </a:moveTo>
                <a:lnTo>
                  <a:pt x="20028" y="10800"/>
                </a:lnTo>
                <a:lnTo>
                  <a:pt x="6015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9" descr="4048"/>
          <p:cNvPicPr/>
          <p:nvPr/>
        </p:nvPicPr>
        <p:blipFill>
          <a:blip r:embed="rId1"/>
          <a:stretch/>
        </p:blipFill>
        <p:spPr>
          <a:xfrm>
            <a:off x="806400" y="587520"/>
            <a:ext cx="7620120" cy="5668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685800" y="35568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407880" y="1585800"/>
            <a:ext cx="76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щита Отечества является долг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  обязанностью  граждан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йской 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459c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59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7" descr="Caregiving"/>
          <p:cNvPicPr/>
          <p:nvPr/>
        </p:nvPicPr>
        <p:blipFill>
          <a:blip r:embed="rId1"/>
          <a:stretch/>
        </p:blipFill>
        <p:spPr>
          <a:xfrm>
            <a:off x="800280" y="763560"/>
            <a:ext cx="7511760" cy="5521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685800" y="32688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787320" y="28260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1336680" y="1978200"/>
            <a:ext cx="621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оспособные дети , достигшие 18 лет, должны заботиться о нетрудоспособных родите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38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7" descr="22"/>
          <p:cNvPicPr/>
          <p:nvPr/>
        </p:nvPicPr>
        <p:blipFill>
          <a:blip r:embed="rId1"/>
          <a:stretch/>
        </p:blipFill>
        <p:spPr>
          <a:xfrm>
            <a:off x="725400" y="314280"/>
            <a:ext cx="7721640" cy="6013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946080" y="22536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1009800" y="1144440"/>
            <a:ext cx="7372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е общее образование обяза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и или лица их заменяющ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еспечивают получение детьми основного обще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459c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ст.43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deti-roditeli-zabota"/>
          <p:cNvPicPr/>
          <p:nvPr/>
        </p:nvPicPr>
        <p:blipFill>
          <a:blip r:embed="rId1"/>
          <a:stretch/>
        </p:blipFill>
        <p:spPr>
          <a:xfrm>
            <a:off x="609480" y="579600"/>
            <a:ext cx="7925040" cy="577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684360" y="19512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765000" y="1773360"/>
            <a:ext cx="74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ота о детях, их воспитание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нность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38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Простой вопро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>
            <a:hlinkClick r:id="rId1" action="ppaction://hlinksldjump"/>
          </p:cNvPr>
          <p:cNvSpPr/>
          <p:nvPr/>
        </p:nvSpPr>
        <p:spPr>
          <a:xfrm>
            <a:off x="8026560" y="5918040"/>
            <a:ext cx="871200" cy="722520"/>
          </a:xfrm>
          <a:custGeom>
            <a:avLst/>
            <a:gdLst>
              <a:gd name="textAreaLeft" fmla="*/ 46800 w 871200"/>
              <a:gd name="textAreaRight" fmla="*/ 824400 w 871200"/>
              <a:gd name="textAreaTop" fmla="*/ 46800 h 722520"/>
              <a:gd name="textAreaBottom" fmla="*/ 675720 h 722520"/>
            </a:gdLst>
            <a:ahLst/>
            <a:rect l="textAreaLeft" t="textAreaTop" r="textAreaRight" b="textAreaBottom"/>
            <a:pathLst>
              <a:path w="26043" h="21600">
                <a:moveTo>
                  <a:pt x="0" y="0"/>
                </a:moveTo>
                <a:lnTo>
                  <a:pt x="26043" y="0"/>
                </a:lnTo>
                <a:lnTo>
                  <a:pt x="26043" y="21600"/>
                </a:lnTo>
                <a:lnTo>
                  <a:pt x="0" y="21600"/>
                </a:lnTo>
                <a:close/>
              </a:path>
              <a:path fill="lightenLess" w="26043" h="21600">
                <a:moveTo>
                  <a:pt x="0" y="0"/>
                </a:moveTo>
                <a:lnTo>
                  <a:pt x="26043" y="0"/>
                </a:lnTo>
                <a:lnTo>
                  <a:pt x="24643" y="1400"/>
                </a:lnTo>
                <a:lnTo>
                  <a:pt x="1400" y="1400"/>
                </a:lnTo>
                <a:close/>
              </a:path>
              <a:path fill="darken" w="26043" h="21600">
                <a:moveTo>
                  <a:pt x="26043" y="0"/>
                </a:moveTo>
                <a:lnTo>
                  <a:pt x="26043" y="21600"/>
                </a:lnTo>
                <a:lnTo>
                  <a:pt x="24643" y="20200"/>
                </a:lnTo>
                <a:lnTo>
                  <a:pt x="24643" y="1400"/>
                </a:lnTo>
                <a:close/>
              </a:path>
              <a:path fill="darkenLess" w="26043" h="21600">
                <a:moveTo>
                  <a:pt x="26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43" y="20200"/>
                </a:lnTo>
                <a:close/>
              </a:path>
              <a:path fill="lighten" w="26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43" h="21600">
                <a:moveTo>
                  <a:pt x="6015" y="3794"/>
                </a:moveTo>
                <a:lnTo>
                  <a:pt x="20028" y="10800"/>
                </a:lnTo>
                <a:lnTo>
                  <a:pt x="6015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7" descr="50bbb34a05c666e9f569a50eb"/>
          <p:cNvPicPr/>
          <p:nvPr/>
        </p:nvPicPr>
        <p:blipFill>
          <a:blip r:embed="rId1"/>
          <a:stretch/>
        </p:blipFill>
        <p:spPr>
          <a:xfrm>
            <a:off x="507960" y="246240"/>
            <a:ext cx="8099640" cy="6242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611280" y="237960"/>
            <a:ext cx="7807320" cy="628524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1353960" y="1386000"/>
            <a:ext cx="609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обязан платить законно установленные налоги и сбор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57 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Символик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4"/>
          <p:cNvSpPr/>
          <p:nvPr/>
        </p:nvSpPr>
        <p:spPr>
          <a:xfrm>
            <a:off x="2917440" y="434880"/>
            <a:ext cx="298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459c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ЛА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5" descr="685613853"/>
          <p:cNvPicPr/>
          <p:nvPr/>
        </p:nvPicPr>
        <p:blipFill>
          <a:blip r:embed="rId1"/>
          <a:stretch/>
        </p:blipFill>
        <p:spPr>
          <a:xfrm>
            <a:off x="0" y="4444920"/>
            <a:ext cx="3619440" cy="24130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6"/>
          <p:cNvSpPr/>
          <p:nvPr/>
        </p:nvSpPr>
        <p:spPr>
          <a:xfrm>
            <a:off x="4390560" y="5646600"/>
            <a:ext cx="27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ДЕРЛА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7" descr="551062256"/>
          <p:cNvPicPr/>
          <p:nvPr/>
        </p:nvPicPr>
        <p:blipFill>
          <a:blip r:embed="rId2"/>
          <a:stretch/>
        </p:blipFill>
        <p:spPr>
          <a:xfrm>
            <a:off x="5257800" y="1817640"/>
            <a:ext cx="3610080" cy="241164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8"/>
          <p:cNvSpPr/>
          <p:nvPr/>
        </p:nvSpPr>
        <p:spPr>
          <a:xfrm>
            <a:off x="5990040" y="453240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9" descr="642435582"/>
          <p:cNvPicPr/>
          <p:nvPr/>
        </p:nvPicPr>
        <p:blipFill>
          <a:blip r:embed="rId3"/>
          <a:stretch/>
        </p:blipFill>
        <p:spPr>
          <a:xfrm>
            <a:off x="654120" y="1049400"/>
            <a:ext cx="3956040" cy="238428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"/>
          <p:cNvSpPr/>
          <p:nvPr/>
        </p:nvSpPr>
        <p:spPr>
          <a:xfrm>
            <a:off x="1284840" y="358920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ГВ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1"/>
          <p:cNvSpPr/>
          <p:nvPr/>
        </p:nvSpPr>
        <p:spPr>
          <a:xfrm>
            <a:off x="8126280" y="5827680"/>
            <a:ext cx="757440" cy="747720"/>
          </a:xfrm>
          <a:custGeom>
            <a:avLst/>
            <a:gdLst>
              <a:gd name="textAreaLeft" fmla="*/ 48240 w 757440"/>
              <a:gd name="textAreaRight" fmla="*/ 709200 w 757440"/>
              <a:gd name="textAreaTop" fmla="*/ 48240 h 747720"/>
              <a:gd name="textAreaBottom" fmla="*/ 699480 h 747720"/>
            </a:gdLst>
            <a:ahLst/>
            <a:rect l="textAreaLeft" t="textAreaTop" r="textAreaRight" b="textAreaBottom"/>
            <a:pathLst>
              <a:path w="21881" h="21600">
                <a:moveTo>
                  <a:pt x="0" y="0"/>
                </a:moveTo>
                <a:lnTo>
                  <a:pt x="21881" y="0"/>
                </a:lnTo>
                <a:lnTo>
                  <a:pt x="21881" y="21600"/>
                </a:lnTo>
                <a:lnTo>
                  <a:pt x="0" y="21600"/>
                </a:lnTo>
                <a:close/>
              </a:path>
              <a:path fill="lightenLess" w="21881" h="21600">
                <a:moveTo>
                  <a:pt x="0" y="0"/>
                </a:moveTo>
                <a:lnTo>
                  <a:pt x="21881" y="0"/>
                </a:lnTo>
                <a:lnTo>
                  <a:pt x="20481" y="1400"/>
                </a:lnTo>
                <a:lnTo>
                  <a:pt x="1400" y="1400"/>
                </a:lnTo>
                <a:close/>
              </a:path>
              <a:path fill="darken" w="21881" h="21600">
                <a:moveTo>
                  <a:pt x="21881" y="0"/>
                </a:moveTo>
                <a:lnTo>
                  <a:pt x="21881" y="21600"/>
                </a:lnTo>
                <a:lnTo>
                  <a:pt x="20481" y="20200"/>
                </a:lnTo>
                <a:lnTo>
                  <a:pt x="20481" y="1400"/>
                </a:lnTo>
                <a:close/>
              </a:path>
              <a:path fill="darkenLess" w="21881" h="21600">
                <a:moveTo>
                  <a:pt x="21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81" y="20200"/>
                </a:lnTo>
                <a:close/>
              </a:path>
              <a:path fill="lighten" w="21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81" h="21600">
                <a:moveTo>
                  <a:pt x="3934" y="7493"/>
                </a:moveTo>
                <a:lnTo>
                  <a:pt x="7441" y="7493"/>
                </a:lnTo>
                <a:lnTo>
                  <a:pt x="7441" y="12828"/>
                </a:lnTo>
                <a:cubicBezTo>
                  <a:pt x="7441" y="13751"/>
                  <a:pt x="8242" y="14482"/>
                  <a:pt x="9278" y="14482"/>
                </a:cubicBezTo>
                <a:lnTo>
                  <a:pt x="10940" y="14482"/>
                </a:lnTo>
                <a:cubicBezTo>
                  <a:pt x="11976" y="14482"/>
                  <a:pt x="12777" y="13751"/>
                  <a:pt x="12777" y="12828"/>
                </a:cubicBezTo>
                <a:lnTo>
                  <a:pt x="12777" y="7493"/>
                </a:lnTo>
                <a:lnTo>
                  <a:pt x="10940" y="7493"/>
                </a:lnTo>
                <a:lnTo>
                  <a:pt x="14448" y="3985"/>
                </a:lnTo>
                <a:lnTo>
                  <a:pt x="18121" y="7493"/>
                </a:lnTo>
                <a:lnTo>
                  <a:pt x="16284" y="7493"/>
                </a:lnTo>
                <a:lnTo>
                  <a:pt x="16284" y="12828"/>
                </a:lnTo>
                <a:cubicBezTo>
                  <a:pt x="16284" y="15596"/>
                  <a:pt x="13708" y="18155"/>
                  <a:pt x="10940" y="18155"/>
                </a:cubicBezTo>
                <a:lnTo>
                  <a:pt x="9278" y="18155"/>
                </a:lnTo>
                <a:cubicBezTo>
                  <a:pt x="6510" y="18155"/>
                  <a:pt x="3934" y="15596"/>
                  <a:pt x="3934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509760" y="3475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5462640" y="4484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729240" y="5132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часы.wav" descr=""/>
          <p:cNvPicPr/>
          <p:nvPr/>
        </p:nvPicPr>
        <p:blipFill>
          <a:blip r:embed="rId4"/>
          <a:stretch/>
        </p:blipFill>
        <p:spPr>
          <a:xfrm>
            <a:off x="7543800" y="6334200"/>
            <a:ext cx="219240" cy="218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0000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9" descr="42158"/>
          <p:cNvPicPr/>
          <p:nvPr/>
        </p:nvPicPr>
        <p:blipFill>
          <a:blip r:embed="rId1"/>
          <a:stretch/>
        </p:blipFill>
        <p:spPr>
          <a:xfrm>
            <a:off x="2990880" y="299880"/>
            <a:ext cx="3071880" cy="43880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9"/>
          <p:cNvSpPr/>
          <p:nvPr/>
        </p:nvSpPr>
        <p:spPr>
          <a:xfrm>
            <a:off x="2171520" y="244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0640" y="2854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"/>
          <p:cNvSpPr/>
          <p:nvPr/>
        </p:nvSpPr>
        <p:spPr>
          <a:xfrm>
            <a:off x="8602560" y="2892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1207800" y="116676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695160" y="254808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ь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6636240" y="278136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7" descr="133"/>
          <p:cNvPicPr/>
          <p:nvPr/>
        </p:nvPicPr>
        <p:blipFill>
          <a:blip r:embed="rId2"/>
          <a:stretch/>
        </p:blipFill>
        <p:spPr>
          <a:xfrm>
            <a:off x="407880" y="3368520"/>
            <a:ext cx="3105360" cy="34894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8" descr="10459_html_85b62d4"/>
          <p:cNvPicPr/>
          <p:nvPr/>
        </p:nvPicPr>
        <p:blipFill>
          <a:blip r:embed="rId3"/>
          <a:stretch/>
        </p:blipFill>
        <p:spPr>
          <a:xfrm>
            <a:off x="5877000" y="3395520"/>
            <a:ext cx="2976480" cy="3462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0"/>
          <p:cNvSpPr/>
          <p:nvPr/>
        </p:nvSpPr>
        <p:spPr>
          <a:xfrm>
            <a:off x="1177920" y="573120"/>
            <a:ext cx="7488360" cy="60022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2049120" y="784080"/>
            <a:ext cx="533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459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автор слов гим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йской Федераци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7">
            <a:hlinkClick r:id="rId1"/>
          </p:cNvPr>
          <p:cNvSpPr/>
          <p:nvPr/>
        </p:nvSpPr>
        <p:spPr>
          <a:xfrm>
            <a:off x="3368520" y="4761000"/>
            <a:ext cx="2928960" cy="10429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0648" h="21600">
                <a:moveTo>
                  <a:pt x="0" y="0"/>
                </a:moveTo>
                <a:lnTo>
                  <a:pt x="60648" y="0"/>
                </a:lnTo>
                <a:lnTo>
                  <a:pt x="60648" y="21600"/>
                </a:lnTo>
                <a:lnTo>
                  <a:pt x="0" y="21600"/>
                </a:lnTo>
                <a:close/>
              </a:path>
              <a:path fill="lightenLess" w="60648" h="21600">
                <a:moveTo>
                  <a:pt x="0" y="0"/>
                </a:moveTo>
                <a:lnTo>
                  <a:pt x="60648" y="0"/>
                </a:lnTo>
                <a:lnTo>
                  <a:pt x="59249" y="1400"/>
                </a:lnTo>
                <a:lnTo>
                  <a:pt x="1400" y="1400"/>
                </a:lnTo>
                <a:close/>
              </a:path>
              <a:path fill="darken" w="60648" h="21600">
                <a:moveTo>
                  <a:pt x="60648" y="0"/>
                </a:moveTo>
                <a:lnTo>
                  <a:pt x="60648" y="21600"/>
                </a:lnTo>
                <a:lnTo>
                  <a:pt x="59249" y="20200"/>
                </a:lnTo>
                <a:lnTo>
                  <a:pt x="59249" y="1400"/>
                </a:lnTo>
                <a:close/>
              </a:path>
              <a:path fill="darkenLess" w="60648" h="21600">
                <a:moveTo>
                  <a:pt x="6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49" y="20200"/>
                </a:lnTo>
                <a:close/>
              </a:path>
              <a:path fill="lighten" w="6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гей</a:t>
            </a:r>
            <a:r>
              <a:rPr b="0" lang="ru-RU" sz="2000" spc="-1" strike="noStrike">
                <a:solidFill>
                  <a:srgbClr val="31459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ха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>
            <a:hlinkClick r:id="rId2"/>
          </p:cNvPr>
          <p:cNvSpPr/>
          <p:nvPr/>
        </p:nvSpPr>
        <p:spPr>
          <a:xfrm>
            <a:off x="3303720" y="3367080"/>
            <a:ext cx="2928960" cy="10429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0648" h="21600">
                <a:moveTo>
                  <a:pt x="0" y="0"/>
                </a:moveTo>
                <a:lnTo>
                  <a:pt x="60648" y="0"/>
                </a:lnTo>
                <a:lnTo>
                  <a:pt x="60648" y="21600"/>
                </a:lnTo>
                <a:lnTo>
                  <a:pt x="0" y="21600"/>
                </a:lnTo>
                <a:close/>
              </a:path>
              <a:path fill="lightenLess" w="60648" h="21600">
                <a:moveTo>
                  <a:pt x="0" y="0"/>
                </a:moveTo>
                <a:lnTo>
                  <a:pt x="60648" y="0"/>
                </a:lnTo>
                <a:lnTo>
                  <a:pt x="59249" y="1400"/>
                </a:lnTo>
                <a:lnTo>
                  <a:pt x="1400" y="1400"/>
                </a:lnTo>
                <a:close/>
              </a:path>
              <a:path fill="darken" w="60648" h="21600">
                <a:moveTo>
                  <a:pt x="60648" y="0"/>
                </a:moveTo>
                <a:lnTo>
                  <a:pt x="60648" y="21600"/>
                </a:lnTo>
                <a:lnTo>
                  <a:pt x="59249" y="20200"/>
                </a:lnTo>
                <a:lnTo>
                  <a:pt x="59249" y="1400"/>
                </a:lnTo>
                <a:close/>
              </a:path>
              <a:path fill="darkenLess" w="60648" h="21600">
                <a:moveTo>
                  <a:pt x="6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49" y="20200"/>
                </a:lnTo>
                <a:close/>
              </a:path>
              <a:path fill="lighten" w="6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вгений  Евтуш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9">
            <a:hlinkClick r:id="rId3"/>
          </p:cNvPr>
          <p:cNvSpPr/>
          <p:nvPr/>
        </p:nvSpPr>
        <p:spPr>
          <a:xfrm>
            <a:off x="3300480" y="2030400"/>
            <a:ext cx="2928960" cy="10429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0648" h="21600">
                <a:moveTo>
                  <a:pt x="0" y="0"/>
                </a:moveTo>
                <a:lnTo>
                  <a:pt x="60648" y="0"/>
                </a:lnTo>
                <a:lnTo>
                  <a:pt x="60648" y="21600"/>
                </a:lnTo>
                <a:lnTo>
                  <a:pt x="0" y="21600"/>
                </a:lnTo>
                <a:close/>
              </a:path>
              <a:path fill="lightenLess" w="60648" h="21600">
                <a:moveTo>
                  <a:pt x="0" y="0"/>
                </a:moveTo>
                <a:lnTo>
                  <a:pt x="60648" y="0"/>
                </a:lnTo>
                <a:lnTo>
                  <a:pt x="59249" y="1400"/>
                </a:lnTo>
                <a:lnTo>
                  <a:pt x="1400" y="1400"/>
                </a:lnTo>
                <a:close/>
              </a:path>
              <a:path fill="darken" w="60648" h="21600">
                <a:moveTo>
                  <a:pt x="60648" y="0"/>
                </a:moveTo>
                <a:lnTo>
                  <a:pt x="60648" y="21600"/>
                </a:lnTo>
                <a:lnTo>
                  <a:pt x="59249" y="20200"/>
                </a:lnTo>
                <a:lnTo>
                  <a:pt x="59249" y="1400"/>
                </a:lnTo>
                <a:close/>
              </a:path>
              <a:path fill="darkenLess" w="60648" h="21600">
                <a:moveTo>
                  <a:pt x="6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49" y="20200"/>
                </a:lnTo>
                <a:close/>
              </a:path>
              <a:path fill="lighten" w="6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дуард Багриц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689040" y="1616040"/>
            <a:ext cx="744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459c"/>
                </a:solidFill>
                <a:latin typeface="Arial"/>
              </a:rPr>
              <a:t>           </a:t>
            </a:r>
            <a:r>
              <a:rPr b="1" lang="ru-RU" sz="4400" spc="-1" strike="noStrike">
                <a:solidFill>
                  <a:srgbClr val="31459c"/>
                </a:solidFill>
                <a:latin typeface="Arial"/>
              </a:rPr>
              <a:t>Сергей Миха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459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втор слов гим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8096400" y="5905440"/>
            <a:ext cx="747720" cy="690480"/>
          </a:xfrm>
          <a:custGeom>
            <a:avLst/>
            <a:gdLst>
              <a:gd name="textAreaLeft" fmla="*/ 44640 w 747720"/>
              <a:gd name="textAreaRight" fmla="*/ 703080 w 747720"/>
              <a:gd name="textAreaTop" fmla="*/ 44640 h 690480"/>
              <a:gd name="textAreaBottom" fmla="*/ 645840 h 690480"/>
            </a:gdLst>
            <a:ahLst/>
            <a:rect l="textAreaLeft" t="textAreaTop" r="textAreaRight" b="textAreaBottom"/>
            <a:pathLst>
              <a:path w="23390" h="21600">
                <a:moveTo>
                  <a:pt x="0" y="0"/>
                </a:moveTo>
                <a:lnTo>
                  <a:pt x="23390" y="0"/>
                </a:lnTo>
                <a:lnTo>
                  <a:pt x="23390" y="21600"/>
                </a:lnTo>
                <a:lnTo>
                  <a:pt x="0" y="21600"/>
                </a:lnTo>
                <a:close/>
              </a:path>
              <a:path fill="lightenLess" w="23390" h="21600">
                <a:moveTo>
                  <a:pt x="0" y="0"/>
                </a:moveTo>
                <a:lnTo>
                  <a:pt x="23390" y="0"/>
                </a:lnTo>
                <a:lnTo>
                  <a:pt x="21990" y="1400"/>
                </a:lnTo>
                <a:lnTo>
                  <a:pt x="1400" y="1400"/>
                </a:lnTo>
                <a:close/>
              </a:path>
              <a:path fill="darken" w="23390" h="21600">
                <a:moveTo>
                  <a:pt x="23390" y="0"/>
                </a:moveTo>
                <a:lnTo>
                  <a:pt x="23390" y="21600"/>
                </a:lnTo>
                <a:lnTo>
                  <a:pt x="21990" y="20200"/>
                </a:lnTo>
                <a:lnTo>
                  <a:pt x="21990" y="1400"/>
                </a:lnTo>
                <a:close/>
              </a:path>
              <a:path fill="darkenLess" w="23390" h="21600">
                <a:moveTo>
                  <a:pt x="23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0" y="20200"/>
                </a:lnTo>
                <a:close/>
              </a:path>
              <a:path fill="lighten" w="23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0" h="21600">
                <a:moveTo>
                  <a:pt x="4688" y="7493"/>
                </a:moveTo>
                <a:lnTo>
                  <a:pt x="8196" y="7493"/>
                </a:lnTo>
                <a:lnTo>
                  <a:pt x="8196" y="12828"/>
                </a:lnTo>
                <a:cubicBezTo>
                  <a:pt x="8196" y="13751"/>
                  <a:pt x="8997" y="14482"/>
                  <a:pt x="10032" y="14482"/>
                </a:cubicBezTo>
                <a:lnTo>
                  <a:pt x="11695" y="14482"/>
                </a:lnTo>
                <a:cubicBezTo>
                  <a:pt x="12731" y="14482"/>
                  <a:pt x="13531" y="13751"/>
                  <a:pt x="13531" y="12828"/>
                </a:cubicBezTo>
                <a:lnTo>
                  <a:pt x="13531" y="7493"/>
                </a:lnTo>
                <a:lnTo>
                  <a:pt x="11695" y="7493"/>
                </a:lnTo>
                <a:lnTo>
                  <a:pt x="15202" y="3985"/>
                </a:lnTo>
                <a:lnTo>
                  <a:pt x="18875" y="7493"/>
                </a:lnTo>
                <a:lnTo>
                  <a:pt x="17039" y="7493"/>
                </a:lnTo>
                <a:lnTo>
                  <a:pt x="17039" y="12828"/>
                </a:lnTo>
                <a:cubicBezTo>
                  <a:pt x="17039" y="15596"/>
                  <a:pt x="14463" y="18155"/>
                  <a:pt x="11695" y="18155"/>
                </a:cubicBezTo>
                <a:lnTo>
                  <a:pt x="10032" y="18155"/>
                </a:lnTo>
                <a:cubicBezTo>
                  <a:pt x="7265" y="18155"/>
                  <a:pt x="4688" y="15596"/>
                  <a:pt x="4688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279360" y="865080"/>
            <a:ext cx="855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в России отмеч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 государственного фл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5">
            <a:hlinkClick r:id="rId1"/>
          </p:cNvPr>
          <p:cNvSpPr/>
          <p:nvPr/>
        </p:nvSpPr>
        <p:spPr>
          <a:xfrm>
            <a:off x="3514680" y="3392640"/>
            <a:ext cx="2481480" cy="1042920"/>
          </a:xfrm>
          <a:custGeom>
            <a:avLst/>
            <a:gdLst>
              <a:gd name="textAreaLeft" fmla="*/ 67320 w 2481480"/>
              <a:gd name="textAreaRight" fmla="*/ 2414160 w 248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1384" h="21600">
                <a:moveTo>
                  <a:pt x="0" y="0"/>
                </a:moveTo>
                <a:lnTo>
                  <a:pt x="51384" y="0"/>
                </a:lnTo>
                <a:lnTo>
                  <a:pt x="51384" y="21600"/>
                </a:lnTo>
                <a:lnTo>
                  <a:pt x="0" y="21600"/>
                </a:lnTo>
                <a:close/>
              </a:path>
              <a:path fill="lightenLess" w="51384" h="21600">
                <a:moveTo>
                  <a:pt x="0" y="0"/>
                </a:moveTo>
                <a:lnTo>
                  <a:pt x="51384" y="0"/>
                </a:lnTo>
                <a:lnTo>
                  <a:pt x="49984" y="1400"/>
                </a:lnTo>
                <a:lnTo>
                  <a:pt x="1400" y="1400"/>
                </a:lnTo>
                <a:close/>
              </a:path>
              <a:path fill="darken" w="51384" h="21600">
                <a:moveTo>
                  <a:pt x="51384" y="0"/>
                </a:moveTo>
                <a:lnTo>
                  <a:pt x="51384" y="21600"/>
                </a:lnTo>
                <a:lnTo>
                  <a:pt x="49984" y="20200"/>
                </a:lnTo>
                <a:lnTo>
                  <a:pt x="49984" y="1400"/>
                </a:lnTo>
                <a:close/>
              </a:path>
              <a:path fill="darkenLess" w="51384" h="21600">
                <a:moveTo>
                  <a:pt x="51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84" y="20200"/>
                </a:lnTo>
                <a:close/>
              </a:path>
              <a:path fill="lighten" w="51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2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">
            <a:hlinkClick r:id="rId2"/>
          </p:cNvPr>
          <p:cNvSpPr/>
          <p:nvPr/>
        </p:nvSpPr>
        <p:spPr>
          <a:xfrm>
            <a:off x="1330200" y="4902120"/>
            <a:ext cx="2481480" cy="1042920"/>
          </a:xfrm>
          <a:custGeom>
            <a:avLst/>
            <a:gdLst>
              <a:gd name="textAreaLeft" fmla="*/ 67320 w 2481480"/>
              <a:gd name="textAreaRight" fmla="*/ 2414160 w 248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1384" h="21600">
                <a:moveTo>
                  <a:pt x="0" y="0"/>
                </a:moveTo>
                <a:lnTo>
                  <a:pt x="51384" y="0"/>
                </a:lnTo>
                <a:lnTo>
                  <a:pt x="51384" y="21600"/>
                </a:lnTo>
                <a:lnTo>
                  <a:pt x="0" y="21600"/>
                </a:lnTo>
                <a:close/>
              </a:path>
              <a:path fill="lightenLess" w="51384" h="21600">
                <a:moveTo>
                  <a:pt x="0" y="0"/>
                </a:moveTo>
                <a:lnTo>
                  <a:pt x="51384" y="0"/>
                </a:lnTo>
                <a:lnTo>
                  <a:pt x="49984" y="1400"/>
                </a:lnTo>
                <a:lnTo>
                  <a:pt x="1400" y="1400"/>
                </a:lnTo>
                <a:close/>
              </a:path>
              <a:path fill="darken" w="51384" h="21600">
                <a:moveTo>
                  <a:pt x="51384" y="0"/>
                </a:moveTo>
                <a:lnTo>
                  <a:pt x="51384" y="21600"/>
                </a:lnTo>
                <a:lnTo>
                  <a:pt x="49984" y="20200"/>
                </a:lnTo>
                <a:lnTo>
                  <a:pt x="49984" y="1400"/>
                </a:lnTo>
                <a:close/>
              </a:path>
              <a:path fill="darkenLess" w="51384" h="21600">
                <a:moveTo>
                  <a:pt x="51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84" y="20200"/>
                </a:lnTo>
                <a:close/>
              </a:path>
              <a:path fill="lighten" w="51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ию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7">
            <a:hlinkClick r:id="rId3"/>
          </p:cNvPr>
          <p:cNvSpPr/>
          <p:nvPr/>
        </p:nvSpPr>
        <p:spPr>
          <a:xfrm>
            <a:off x="5637240" y="5056200"/>
            <a:ext cx="2481120" cy="1042920"/>
          </a:xfrm>
          <a:custGeom>
            <a:avLst/>
            <a:gdLst>
              <a:gd name="textAreaLeft" fmla="*/ 67320 w 2481120"/>
              <a:gd name="textAreaRight" fmla="*/ 2413800 w 24811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м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0"/>
          <p:cNvSpPr/>
          <p:nvPr/>
        </p:nvSpPr>
        <p:spPr>
          <a:xfrm>
            <a:off x="641520" y="34128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641520" y="34128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1335240" y="1582560"/>
            <a:ext cx="63133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31459c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        государственного флага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ссии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мечает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           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22 авгу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7"/>
          <p:cNvSpPr/>
          <p:nvPr/>
        </p:nvSpPr>
        <p:spPr>
          <a:xfrm>
            <a:off x="8032680" y="5838840"/>
            <a:ext cx="738360" cy="738000"/>
          </a:xfrm>
          <a:custGeom>
            <a:avLst/>
            <a:gdLst>
              <a:gd name="textAreaLeft" fmla="*/ 47520 w 738360"/>
              <a:gd name="textAreaRight" fmla="*/ 690840 w 73836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7493"/>
                </a:moveTo>
                <a:lnTo>
                  <a:pt x="7306" y="7493"/>
                </a:lnTo>
                <a:lnTo>
                  <a:pt x="7306" y="12828"/>
                </a:lnTo>
                <a:cubicBezTo>
                  <a:pt x="7306" y="13751"/>
                  <a:pt x="8107" y="14482"/>
                  <a:pt x="9143" y="14482"/>
                </a:cubicBezTo>
                <a:lnTo>
                  <a:pt x="10805" y="14482"/>
                </a:lnTo>
                <a:cubicBezTo>
                  <a:pt x="11841" y="14482"/>
                  <a:pt x="12642" y="13751"/>
                  <a:pt x="12642" y="12828"/>
                </a:cubicBezTo>
                <a:lnTo>
                  <a:pt x="12642" y="7493"/>
                </a:lnTo>
                <a:lnTo>
                  <a:pt x="10805" y="7493"/>
                </a:lnTo>
                <a:lnTo>
                  <a:pt x="14313" y="3985"/>
                </a:lnTo>
                <a:lnTo>
                  <a:pt x="17986" y="7493"/>
                </a:lnTo>
                <a:lnTo>
                  <a:pt x="16149" y="7493"/>
                </a:lnTo>
                <a:lnTo>
                  <a:pt x="16149" y="12828"/>
                </a:lnTo>
                <a:cubicBezTo>
                  <a:pt x="16149" y="15596"/>
                  <a:pt x="13573" y="18155"/>
                  <a:pt x="10805" y="18155"/>
                </a:cubicBezTo>
                <a:lnTo>
                  <a:pt x="9143" y="18155"/>
                </a:lnTo>
                <a:cubicBezTo>
                  <a:pt x="6375" y="18155"/>
                  <a:pt x="3799" y="15596"/>
                  <a:pt x="379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0004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6f3fa"/>
                </a:solidFill>
                <a:latin typeface="Times New Roman"/>
                <a:ea typeface="Times New Roman"/>
              </a:rPr>
              <a:t>Поздравляем знатоков основного закона государств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3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5324760" y="230040"/>
            <a:ext cx="30502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1028880" y="652320"/>
            <a:ext cx="753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Назовите основной закон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>
            <a:hlinkClick r:id="rId1"/>
          </p:cNvPr>
          <p:cNvSpPr/>
          <p:nvPr/>
        </p:nvSpPr>
        <p:spPr>
          <a:xfrm>
            <a:off x="1271520" y="3051000"/>
            <a:ext cx="1909800" cy="852840"/>
          </a:xfrm>
          <a:custGeom>
            <a:avLst/>
            <a:gdLst>
              <a:gd name="textAreaLeft" fmla="*/ 55080 w 1909800"/>
              <a:gd name="textAreaRight" fmla="*/ 1854720 w 1909800"/>
              <a:gd name="textAreaTop" fmla="*/ 55080 h 852840"/>
              <a:gd name="textAreaBottom" fmla="*/ 797760 h 85284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9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9" y="20200"/>
                </a:lnTo>
                <a:lnTo>
                  <a:pt x="46959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9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уп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>
            <a:hlinkClick r:id="rId2"/>
          </p:cNvPr>
          <p:cNvSpPr/>
          <p:nvPr/>
        </p:nvSpPr>
        <p:spPr>
          <a:xfrm>
            <a:off x="3073320" y="4221000"/>
            <a:ext cx="2471760" cy="871560"/>
          </a:xfrm>
          <a:custGeom>
            <a:avLst/>
            <a:gdLst>
              <a:gd name="textAreaLeft" fmla="*/ 56160 w 2471760"/>
              <a:gd name="textAreaRight" fmla="*/ 2415600 w 2471760"/>
              <a:gd name="textAreaTop" fmla="*/ 56160 h 871560"/>
              <a:gd name="textAreaBottom" fmla="*/ 815400 h 871560"/>
            </a:gdLst>
            <a:ahLst/>
            <a:rect l="textAreaLeft" t="textAreaTop" r="textAreaRight" b="textAreaBottom"/>
            <a:pathLst>
              <a:path w="61242" h="21600">
                <a:moveTo>
                  <a:pt x="0" y="0"/>
                </a:moveTo>
                <a:lnTo>
                  <a:pt x="61242" y="0"/>
                </a:lnTo>
                <a:lnTo>
                  <a:pt x="61242" y="21600"/>
                </a:lnTo>
                <a:lnTo>
                  <a:pt x="0" y="21600"/>
                </a:lnTo>
                <a:close/>
              </a:path>
              <a:path fill="lightenLess" w="61242" h="21600">
                <a:moveTo>
                  <a:pt x="0" y="0"/>
                </a:moveTo>
                <a:lnTo>
                  <a:pt x="61242" y="0"/>
                </a:lnTo>
                <a:lnTo>
                  <a:pt x="59842" y="1400"/>
                </a:lnTo>
                <a:lnTo>
                  <a:pt x="1400" y="1400"/>
                </a:lnTo>
                <a:close/>
              </a:path>
              <a:path fill="darken" w="61242" h="21600">
                <a:moveTo>
                  <a:pt x="61242" y="0"/>
                </a:moveTo>
                <a:lnTo>
                  <a:pt x="61242" y="21600"/>
                </a:lnTo>
                <a:lnTo>
                  <a:pt x="59842" y="20200"/>
                </a:lnTo>
                <a:lnTo>
                  <a:pt x="59842" y="1400"/>
                </a:lnTo>
                <a:close/>
              </a:path>
              <a:path fill="darkenLess" w="61242" h="21600">
                <a:moveTo>
                  <a:pt x="61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42" y="20200"/>
                </a:lnTo>
                <a:close/>
              </a:path>
              <a:path fill="lighten" w="61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феде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>
            <a:hlinkClick r:id="rId3" action="ppaction://hlinksldjump"/>
          </p:cNvPr>
          <p:cNvSpPr/>
          <p:nvPr/>
        </p:nvSpPr>
        <p:spPr>
          <a:xfrm>
            <a:off x="5232240" y="5375160"/>
            <a:ext cx="2167200" cy="881280"/>
          </a:xfrm>
          <a:custGeom>
            <a:avLst/>
            <a:gdLst>
              <a:gd name="textAreaLeft" fmla="*/ 56880 w 2167200"/>
              <a:gd name="textAreaRight" fmla="*/ 2110320 w 2167200"/>
              <a:gd name="textAreaTop" fmla="*/ 56880 h 881280"/>
              <a:gd name="textAreaBottom" fmla="*/ 824400 h 881280"/>
            </a:gdLst>
            <a:ahLst/>
            <a:rect l="textAreaLeft" t="textAreaTop" r="textAreaRight" b="textAreaBottom"/>
            <a:pathLst>
              <a:path w="53105" h="21600">
                <a:moveTo>
                  <a:pt x="0" y="0"/>
                </a:moveTo>
                <a:lnTo>
                  <a:pt x="53105" y="0"/>
                </a:lnTo>
                <a:lnTo>
                  <a:pt x="53105" y="21600"/>
                </a:lnTo>
                <a:lnTo>
                  <a:pt x="0" y="21600"/>
                </a:lnTo>
                <a:close/>
              </a:path>
              <a:path fill="lightenLess" w="53105" h="21600">
                <a:moveTo>
                  <a:pt x="0" y="0"/>
                </a:moveTo>
                <a:lnTo>
                  <a:pt x="53105" y="0"/>
                </a:lnTo>
                <a:lnTo>
                  <a:pt x="51705" y="1400"/>
                </a:lnTo>
                <a:lnTo>
                  <a:pt x="1400" y="1400"/>
                </a:lnTo>
                <a:close/>
              </a:path>
              <a:path fill="darken" w="53105" h="21600">
                <a:moveTo>
                  <a:pt x="53105" y="0"/>
                </a:moveTo>
                <a:lnTo>
                  <a:pt x="53105" y="21600"/>
                </a:lnTo>
                <a:lnTo>
                  <a:pt x="51705" y="20200"/>
                </a:lnTo>
                <a:lnTo>
                  <a:pt x="51705" y="1400"/>
                </a:lnTo>
                <a:close/>
              </a:path>
              <a:path fill="darkenLess" w="53105" h="21600">
                <a:moveTo>
                  <a:pt x="5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05" y="20200"/>
                </a:lnTo>
                <a:close/>
              </a:path>
              <a:path fill="lighten" w="5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иту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157320" y="30168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С праздником,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 Днём Конституци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2975040" y="2409840"/>
            <a:ext cx="586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Поздравляю вас с Д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f3fa"/>
                </a:solidFill>
                <a:latin typeface="Times New Roman"/>
              </a:rPr>
              <a:t>                                     </a:t>
            </a: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Конституци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И желаю, чтоб нашу стра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Обошли стороной револю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Чтоб она не познала вой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Пусть живет, процветает Вели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Наша Родина, гордость и ч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Неприятели пусть многоли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Позабудут коварство и л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4321080" y="4497480"/>
            <a:ext cx="4484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rcRect l="0" t="0" r="4179" b="2942"/>
          <a:stretch/>
        </p:blipFill>
        <p:spPr>
          <a:xfrm>
            <a:off x="189000" y="2593800"/>
            <a:ext cx="2597040" cy="358956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6"/>
          <p:cNvSpPr/>
          <p:nvPr/>
        </p:nvSpPr>
        <p:spPr>
          <a:xfrm>
            <a:off x="4473720" y="4649760"/>
            <a:ext cx="448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800280" y="37944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995480" y="566640"/>
            <a:ext cx="529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Конститу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8153280" y="6039000"/>
            <a:ext cx="804960" cy="699840"/>
          </a:xfrm>
          <a:custGeom>
            <a:avLst/>
            <a:gdLst>
              <a:gd name="textAreaLeft" fmla="*/ 45360 w 804960"/>
              <a:gd name="textAreaRight" fmla="*/ 759600 w 804960"/>
              <a:gd name="textAreaTop" fmla="*/ 45360 h 699840"/>
              <a:gd name="textAreaBottom" fmla="*/ 654480 h 699840"/>
            </a:gdLst>
            <a:ahLst/>
            <a:rect l="textAreaLeft" t="textAreaTop" r="textAreaRight" b="textAreaBottom"/>
            <a:pathLst>
              <a:path w="24843" h="21600">
                <a:moveTo>
                  <a:pt x="0" y="0"/>
                </a:moveTo>
                <a:lnTo>
                  <a:pt x="24843" y="0"/>
                </a:lnTo>
                <a:lnTo>
                  <a:pt x="24843" y="21600"/>
                </a:lnTo>
                <a:lnTo>
                  <a:pt x="0" y="21600"/>
                </a:lnTo>
                <a:close/>
              </a:path>
              <a:path fill="lightenLess" w="24843" h="21600">
                <a:moveTo>
                  <a:pt x="0" y="0"/>
                </a:moveTo>
                <a:lnTo>
                  <a:pt x="24843" y="0"/>
                </a:lnTo>
                <a:lnTo>
                  <a:pt x="23443" y="1400"/>
                </a:lnTo>
                <a:lnTo>
                  <a:pt x="1400" y="1400"/>
                </a:lnTo>
                <a:close/>
              </a:path>
              <a:path fill="darken" w="24843" h="21600">
                <a:moveTo>
                  <a:pt x="24843" y="0"/>
                </a:moveTo>
                <a:lnTo>
                  <a:pt x="24843" y="21600"/>
                </a:lnTo>
                <a:lnTo>
                  <a:pt x="23443" y="20200"/>
                </a:lnTo>
                <a:lnTo>
                  <a:pt x="23443" y="1400"/>
                </a:lnTo>
                <a:close/>
              </a:path>
              <a:path fill="darkenLess" w="24843" h="21600">
                <a:moveTo>
                  <a:pt x="2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43" y="20200"/>
                </a:lnTo>
                <a:close/>
              </a:path>
              <a:path fill="lighten" w="2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43" h="21600">
                <a:moveTo>
                  <a:pt x="5415" y="7493"/>
                </a:moveTo>
                <a:lnTo>
                  <a:pt x="8922" y="7493"/>
                </a:lnTo>
                <a:lnTo>
                  <a:pt x="8922" y="12828"/>
                </a:lnTo>
                <a:cubicBezTo>
                  <a:pt x="8922" y="13751"/>
                  <a:pt x="9723" y="14482"/>
                  <a:pt x="10759" y="14482"/>
                </a:cubicBezTo>
                <a:lnTo>
                  <a:pt x="12421" y="14482"/>
                </a:lnTo>
                <a:cubicBezTo>
                  <a:pt x="13457" y="14482"/>
                  <a:pt x="14258" y="13751"/>
                  <a:pt x="14258" y="12828"/>
                </a:cubicBezTo>
                <a:lnTo>
                  <a:pt x="14258" y="7493"/>
                </a:lnTo>
                <a:lnTo>
                  <a:pt x="12421" y="7493"/>
                </a:lnTo>
                <a:lnTo>
                  <a:pt x="15929" y="3985"/>
                </a:lnTo>
                <a:lnTo>
                  <a:pt x="19602" y="7493"/>
                </a:lnTo>
                <a:lnTo>
                  <a:pt x="17765" y="7493"/>
                </a:lnTo>
                <a:lnTo>
                  <a:pt x="17765" y="12828"/>
                </a:lnTo>
                <a:cubicBezTo>
                  <a:pt x="17765" y="15596"/>
                  <a:pt x="15189" y="18155"/>
                  <a:pt x="12421" y="18155"/>
                </a:cubicBezTo>
                <a:lnTo>
                  <a:pt x="10759" y="18155"/>
                </a:lnTo>
                <a:cubicBezTo>
                  <a:pt x="7991" y="18155"/>
                  <a:pt x="5415" y="15596"/>
                  <a:pt x="5415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8" descr="0017-014-Konstitutsija-RF"/>
          <p:cNvPicPr/>
          <p:nvPr/>
        </p:nvPicPr>
        <p:blipFill>
          <a:blip r:embed="rId1"/>
          <a:stretch/>
        </p:blipFill>
        <p:spPr>
          <a:xfrm>
            <a:off x="3255840" y="2028960"/>
            <a:ext cx="2805120" cy="3909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8"/>
          <p:cNvSpPr/>
          <p:nvPr/>
        </p:nvSpPr>
        <p:spPr>
          <a:xfrm>
            <a:off x="871560" y="23976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1030320" y="625320"/>
            <a:ext cx="698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f6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Сколько лет прошло с момента    принятия последн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Конститу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нашего государств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">
            <a:hlinkClick r:id="rId1"/>
          </p:cNvPr>
          <p:cNvSpPr/>
          <p:nvPr/>
        </p:nvSpPr>
        <p:spPr>
          <a:xfrm>
            <a:off x="1457280" y="4152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6">
            <a:hlinkClick r:id="rId2"/>
          </p:cNvPr>
          <p:cNvSpPr/>
          <p:nvPr/>
        </p:nvSpPr>
        <p:spPr>
          <a:xfrm>
            <a:off x="3873600" y="4168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7">
            <a:hlinkClick r:id="rId3"/>
          </p:cNvPr>
          <p:cNvSpPr/>
          <p:nvPr/>
        </p:nvSpPr>
        <p:spPr>
          <a:xfrm>
            <a:off x="6404040" y="420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103356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980080" y="635040"/>
            <a:ext cx="39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12f69"/>
                </a:solidFill>
                <a:latin typeface="Arial"/>
              </a:rPr>
              <a:t>27 л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6"/>
          <p:cNvSpPr/>
          <p:nvPr/>
        </p:nvSpPr>
        <p:spPr>
          <a:xfrm>
            <a:off x="7972560" y="5743440"/>
            <a:ext cx="785520" cy="776520"/>
          </a:xfrm>
          <a:custGeom>
            <a:avLst/>
            <a:gdLst>
              <a:gd name="textAreaLeft" fmla="*/ 50040 w 785520"/>
              <a:gd name="textAreaRight" fmla="*/ 735480 w 785520"/>
              <a:gd name="textAreaTop" fmla="*/ 50040 h 776520"/>
              <a:gd name="textAreaBottom" fmla="*/ 726480 h 77652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20450" y="1400"/>
                </a:lnTo>
                <a:lnTo>
                  <a:pt x="1400" y="1400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20450" y="20200"/>
                </a:lnTo>
                <a:lnTo>
                  <a:pt x="20450" y="1400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50" y="20200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50" h="21600">
                <a:moveTo>
                  <a:pt x="3919" y="7493"/>
                </a:moveTo>
                <a:lnTo>
                  <a:pt x="7426" y="7493"/>
                </a:lnTo>
                <a:lnTo>
                  <a:pt x="7426" y="12828"/>
                </a:lnTo>
                <a:cubicBezTo>
                  <a:pt x="7426" y="13751"/>
                  <a:pt x="8227" y="14482"/>
                  <a:pt x="9263" y="14482"/>
                </a:cubicBezTo>
                <a:lnTo>
                  <a:pt x="10925" y="14482"/>
                </a:lnTo>
                <a:cubicBezTo>
                  <a:pt x="11961" y="14482"/>
                  <a:pt x="12762" y="13751"/>
                  <a:pt x="12762" y="12828"/>
                </a:cubicBezTo>
                <a:lnTo>
                  <a:pt x="12762" y="7493"/>
                </a:lnTo>
                <a:lnTo>
                  <a:pt x="10925" y="7493"/>
                </a:lnTo>
                <a:lnTo>
                  <a:pt x="14433" y="3985"/>
                </a:lnTo>
                <a:lnTo>
                  <a:pt x="18106" y="7493"/>
                </a:lnTo>
                <a:lnTo>
                  <a:pt x="16269" y="7493"/>
                </a:lnTo>
                <a:lnTo>
                  <a:pt x="16269" y="12828"/>
                </a:lnTo>
                <a:cubicBezTo>
                  <a:pt x="16269" y="15596"/>
                  <a:pt x="13693" y="18155"/>
                  <a:pt x="10925" y="18155"/>
                </a:cubicBezTo>
                <a:lnTo>
                  <a:pt x="9263" y="18155"/>
                </a:lnTo>
                <a:cubicBezTo>
                  <a:pt x="6495" y="18155"/>
                  <a:pt x="3919" y="15596"/>
                  <a:pt x="391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0017-014-Konstitutsija-RF"/>
          <p:cNvPicPr/>
          <p:nvPr/>
        </p:nvPicPr>
        <p:blipFill>
          <a:blip r:embed="rId1"/>
          <a:stretch/>
        </p:blipFill>
        <p:spPr>
          <a:xfrm>
            <a:off x="3532320" y="2390760"/>
            <a:ext cx="2805120" cy="3909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9"/>
          <p:cNvSpPr/>
          <p:nvPr/>
        </p:nvSpPr>
        <p:spPr>
          <a:xfrm>
            <a:off x="685800" y="35568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4267080" y="1127160"/>
            <a:ext cx="23148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560880" y="838080"/>
            <a:ext cx="740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Сколько изданий Конститу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насчитывает  наше государств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">
            <a:hlinkClick r:id="rId1"/>
          </p:cNvPr>
          <p:cNvSpPr/>
          <p:nvPr/>
        </p:nvSpPr>
        <p:spPr>
          <a:xfrm>
            <a:off x="1746360" y="2765520"/>
            <a:ext cx="900000" cy="890640"/>
          </a:xfrm>
          <a:custGeom>
            <a:avLst/>
            <a:gdLst>
              <a:gd name="textAreaLeft" fmla="*/ 57600 w 900000"/>
              <a:gd name="textAreaRight" fmla="*/ 842400 w 9000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1827" h="21600">
                <a:moveTo>
                  <a:pt x="0" y="0"/>
                </a:moveTo>
                <a:lnTo>
                  <a:pt x="21827" y="0"/>
                </a:lnTo>
                <a:lnTo>
                  <a:pt x="21827" y="21600"/>
                </a:lnTo>
                <a:lnTo>
                  <a:pt x="0" y="21600"/>
                </a:lnTo>
                <a:close/>
              </a:path>
              <a:path fill="lightenLess" w="21827" h="21600">
                <a:moveTo>
                  <a:pt x="0" y="0"/>
                </a:moveTo>
                <a:lnTo>
                  <a:pt x="21827" y="0"/>
                </a:lnTo>
                <a:lnTo>
                  <a:pt x="20427" y="1400"/>
                </a:lnTo>
                <a:lnTo>
                  <a:pt x="1400" y="1400"/>
                </a:lnTo>
                <a:close/>
              </a:path>
              <a:path fill="darken" w="21827" h="21600">
                <a:moveTo>
                  <a:pt x="21827" y="0"/>
                </a:moveTo>
                <a:lnTo>
                  <a:pt x="21827" y="21600"/>
                </a:lnTo>
                <a:lnTo>
                  <a:pt x="20427" y="20200"/>
                </a:lnTo>
                <a:lnTo>
                  <a:pt x="20427" y="1400"/>
                </a:lnTo>
                <a:close/>
              </a:path>
              <a:path fill="darkenLess" w="21827" h="21600">
                <a:moveTo>
                  <a:pt x="21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27" y="20200"/>
                </a:lnTo>
                <a:close/>
              </a:path>
              <a:path fill="lighten" w="21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459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7">
            <a:hlinkClick r:id="rId2"/>
          </p:cNvPr>
          <p:cNvSpPr/>
          <p:nvPr/>
        </p:nvSpPr>
        <p:spPr>
          <a:xfrm>
            <a:off x="1716120" y="3855960"/>
            <a:ext cx="900000" cy="824040"/>
          </a:xfrm>
          <a:custGeom>
            <a:avLst/>
            <a:gdLst>
              <a:gd name="textAreaLeft" fmla="*/ 53280 w 900000"/>
              <a:gd name="textAreaRight" fmla="*/ 846720 w 900000"/>
              <a:gd name="textAreaTop" fmla="*/ 53280 h 824040"/>
              <a:gd name="textAreaBottom" fmla="*/ 770760 h 824040"/>
            </a:gdLst>
            <a:ahLst/>
            <a:rect l="textAreaLeft" t="textAreaTop" r="textAreaRight" b="textAreaBottom"/>
            <a:pathLst>
              <a:path w="23590" h="21600">
                <a:moveTo>
                  <a:pt x="0" y="0"/>
                </a:moveTo>
                <a:lnTo>
                  <a:pt x="23590" y="0"/>
                </a:lnTo>
                <a:lnTo>
                  <a:pt x="23590" y="21600"/>
                </a:lnTo>
                <a:lnTo>
                  <a:pt x="0" y="21600"/>
                </a:lnTo>
                <a:close/>
              </a:path>
              <a:path fill="lightenLess" w="23590" h="21600">
                <a:moveTo>
                  <a:pt x="0" y="0"/>
                </a:moveTo>
                <a:lnTo>
                  <a:pt x="23590" y="0"/>
                </a:lnTo>
                <a:lnTo>
                  <a:pt x="22190" y="1400"/>
                </a:lnTo>
                <a:lnTo>
                  <a:pt x="1400" y="1400"/>
                </a:lnTo>
                <a:close/>
              </a:path>
              <a:path fill="darken" w="23590" h="21600">
                <a:moveTo>
                  <a:pt x="23590" y="0"/>
                </a:moveTo>
                <a:lnTo>
                  <a:pt x="23590" y="21600"/>
                </a:lnTo>
                <a:lnTo>
                  <a:pt x="22190" y="20200"/>
                </a:lnTo>
                <a:lnTo>
                  <a:pt x="22190" y="1400"/>
                </a:lnTo>
                <a:close/>
              </a:path>
              <a:path fill="darkenLess" w="23590" h="21600">
                <a:moveTo>
                  <a:pt x="2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0" y="20200"/>
                </a:lnTo>
                <a:close/>
              </a:path>
              <a:path fill="lighten" w="2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8">
            <a:hlinkClick r:id="rId3"/>
          </p:cNvPr>
          <p:cNvSpPr/>
          <p:nvPr/>
        </p:nvSpPr>
        <p:spPr>
          <a:xfrm>
            <a:off x="1751040" y="5043600"/>
            <a:ext cx="880920" cy="909360"/>
          </a:xfrm>
          <a:custGeom>
            <a:avLst/>
            <a:gdLst>
              <a:gd name="textAreaLeft" fmla="*/ 56880 w 880920"/>
              <a:gd name="textAreaRight" fmla="*/ 824040 w 880920"/>
              <a:gd name="textAreaTop" fmla="*/ 56880 h 909360"/>
              <a:gd name="textAreaBottom" fmla="*/ 852480 h 909360"/>
            </a:gdLst>
            <a:ahLst/>
            <a:rect l="textAreaLeft" t="textAreaTop" r="textAreaRight" b="textAreaBottom"/>
            <a:pathLst>
              <a:path w="21600" h="22297">
                <a:moveTo>
                  <a:pt x="0" y="0"/>
                </a:moveTo>
                <a:lnTo>
                  <a:pt x="21600" y="0"/>
                </a:lnTo>
                <a:lnTo>
                  <a:pt x="21600" y="22297"/>
                </a:lnTo>
                <a:lnTo>
                  <a:pt x="0" y="22297"/>
                </a:lnTo>
                <a:close/>
              </a:path>
              <a:path fill="lightenLess" w="21600" h="22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97">
                <a:moveTo>
                  <a:pt x="21600" y="0"/>
                </a:moveTo>
                <a:lnTo>
                  <a:pt x="21600" y="22297"/>
                </a:lnTo>
                <a:lnTo>
                  <a:pt x="20200" y="20897"/>
                </a:lnTo>
                <a:lnTo>
                  <a:pt x="20200" y="1400"/>
                </a:lnTo>
                <a:close/>
              </a:path>
              <a:path fill="darkenLess" w="21600" h="22297">
                <a:moveTo>
                  <a:pt x="21600" y="22297"/>
                </a:moveTo>
                <a:lnTo>
                  <a:pt x="0" y="22297"/>
                </a:lnTo>
                <a:lnTo>
                  <a:pt x="1400" y="20897"/>
                </a:lnTo>
                <a:lnTo>
                  <a:pt x="20200" y="20897"/>
                </a:lnTo>
                <a:close/>
              </a:path>
              <a:path fill="lighten" w="21600" h="22297">
                <a:moveTo>
                  <a:pt x="0" y="22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9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febf7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220px-Обложка_Конституции_РСФСР_1918_года"/>
          <p:cNvPicPr/>
          <p:nvPr/>
        </p:nvPicPr>
        <p:blipFill>
          <a:blip r:embed="rId1"/>
          <a:stretch/>
        </p:blipFill>
        <p:spPr>
          <a:xfrm>
            <a:off x="250920" y="0"/>
            <a:ext cx="2408040" cy="351324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10"/>
          <p:cNvSpPr/>
          <p:nvPr/>
        </p:nvSpPr>
        <p:spPr>
          <a:xfrm>
            <a:off x="7962840" y="5800680"/>
            <a:ext cx="900000" cy="824040"/>
          </a:xfrm>
          <a:custGeom>
            <a:avLst/>
            <a:gdLst>
              <a:gd name="textAreaLeft" fmla="*/ 53280 w 900000"/>
              <a:gd name="textAreaRight" fmla="*/ 846720 w 900000"/>
              <a:gd name="textAreaTop" fmla="*/ 53280 h 824040"/>
              <a:gd name="textAreaBottom" fmla="*/ 770760 h 824040"/>
            </a:gdLst>
            <a:ahLst/>
            <a:rect l="textAreaLeft" t="textAreaTop" r="textAreaRight" b="textAreaBottom"/>
            <a:pathLst>
              <a:path w="23590" h="21600">
                <a:moveTo>
                  <a:pt x="0" y="0"/>
                </a:moveTo>
                <a:lnTo>
                  <a:pt x="23590" y="0"/>
                </a:lnTo>
                <a:lnTo>
                  <a:pt x="23590" y="21600"/>
                </a:lnTo>
                <a:lnTo>
                  <a:pt x="0" y="21600"/>
                </a:lnTo>
                <a:close/>
              </a:path>
              <a:path fill="lightenLess" w="23590" h="21600">
                <a:moveTo>
                  <a:pt x="0" y="0"/>
                </a:moveTo>
                <a:lnTo>
                  <a:pt x="23590" y="0"/>
                </a:lnTo>
                <a:lnTo>
                  <a:pt x="22190" y="1400"/>
                </a:lnTo>
                <a:lnTo>
                  <a:pt x="1400" y="1400"/>
                </a:lnTo>
                <a:close/>
              </a:path>
              <a:path fill="darken" w="23590" h="21600">
                <a:moveTo>
                  <a:pt x="23590" y="0"/>
                </a:moveTo>
                <a:lnTo>
                  <a:pt x="23590" y="21600"/>
                </a:lnTo>
                <a:lnTo>
                  <a:pt x="22190" y="20200"/>
                </a:lnTo>
                <a:lnTo>
                  <a:pt x="22190" y="1400"/>
                </a:lnTo>
                <a:close/>
              </a:path>
              <a:path fill="darkenLess" w="23590" h="21600">
                <a:moveTo>
                  <a:pt x="2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0" y="20200"/>
                </a:lnTo>
                <a:close/>
              </a:path>
              <a:path fill="lighten" w="2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90" h="21600">
                <a:moveTo>
                  <a:pt x="4789" y="7493"/>
                </a:moveTo>
                <a:lnTo>
                  <a:pt x="8296" y="7493"/>
                </a:lnTo>
                <a:lnTo>
                  <a:pt x="8296" y="12828"/>
                </a:lnTo>
                <a:cubicBezTo>
                  <a:pt x="8296" y="13751"/>
                  <a:pt x="9097" y="14482"/>
                  <a:pt x="10133" y="14482"/>
                </a:cubicBezTo>
                <a:lnTo>
                  <a:pt x="11795" y="14482"/>
                </a:lnTo>
                <a:cubicBezTo>
                  <a:pt x="12831" y="14482"/>
                  <a:pt x="13632" y="13751"/>
                  <a:pt x="13632" y="12828"/>
                </a:cubicBezTo>
                <a:lnTo>
                  <a:pt x="13632" y="7493"/>
                </a:lnTo>
                <a:lnTo>
                  <a:pt x="11795" y="7493"/>
                </a:lnTo>
                <a:lnTo>
                  <a:pt x="15303" y="3985"/>
                </a:lnTo>
                <a:lnTo>
                  <a:pt x="18976" y="7493"/>
                </a:lnTo>
                <a:lnTo>
                  <a:pt x="17139" y="7493"/>
                </a:lnTo>
                <a:lnTo>
                  <a:pt x="17139" y="12828"/>
                </a:lnTo>
                <a:cubicBezTo>
                  <a:pt x="17139" y="15596"/>
                  <a:pt x="14563" y="18155"/>
                  <a:pt x="11795" y="18155"/>
                </a:cubicBezTo>
                <a:lnTo>
                  <a:pt x="10133" y="18155"/>
                </a:lnTo>
                <a:cubicBezTo>
                  <a:pt x="7365" y="18155"/>
                  <a:pt x="4789" y="15596"/>
                  <a:pt x="478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1" descr="12_const_1924"/>
          <p:cNvPicPr/>
          <p:nvPr/>
        </p:nvPicPr>
        <p:blipFill>
          <a:blip r:embed="rId2"/>
          <a:stretch/>
        </p:blipFill>
        <p:spPr>
          <a:xfrm>
            <a:off x="5745240" y="198360"/>
            <a:ext cx="2908080" cy="37134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0017-014-Konstitutsija-RF"/>
          <p:cNvPicPr/>
          <p:nvPr/>
        </p:nvPicPr>
        <p:blipFill>
          <a:blip r:embed="rId3"/>
          <a:stretch/>
        </p:blipFill>
        <p:spPr>
          <a:xfrm>
            <a:off x="2835360" y="185760"/>
            <a:ext cx="2805120" cy="39099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3" descr="5509c7fc55971ad8eed3483677b"/>
          <p:cNvPicPr/>
          <p:nvPr/>
        </p:nvPicPr>
        <p:blipFill>
          <a:blip r:embed="rId4"/>
          <a:stretch/>
        </p:blipFill>
        <p:spPr>
          <a:xfrm>
            <a:off x="501480" y="2770200"/>
            <a:ext cx="2746440" cy="4087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5" descr="64588_original"/>
          <p:cNvPicPr/>
          <p:nvPr/>
        </p:nvPicPr>
        <p:blipFill>
          <a:blip r:embed="rId5"/>
          <a:stretch/>
        </p:blipFill>
        <p:spPr>
          <a:xfrm>
            <a:off x="4392720" y="3301920"/>
            <a:ext cx="2463840" cy="3367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User</cp:lastModifiedBy>
  <dcterms:modified xsi:type="dcterms:W3CDTF">2020-12-07T04:46:02Z</dcterms:modified>
  <cp:revision>99</cp:revision>
  <dc:subject/>
  <dc:title>Слайд 1</dc:title>
</cp:coreProperties>
</file>